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14.png" ContentType="image/png"/>
  <Override PartName="/ppt/media/image9.png" ContentType="image/png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6.png" ContentType="image/png"/>
  <Override PartName="/ppt/media/image7.jpeg" ContentType="image/jpeg"/>
  <Override PartName="/ppt/media/image12.jpeg" ContentType="image/jpeg"/>
  <Override PartName="/ppt/media/image5.png" ContentType="image/png"/>
  <Override PartName="/ppt/media/image8.jpeg" ContentType="image/jpeg"/>
  <Override PartName="/ppt/media/image10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25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86920" y="206064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cc00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cc0000"/>
              </a:solidFill>
              <a:latin typeface="Arial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cc0000"/>
              </a:solidFill>
              <a:latin typeface="Arial"/>
            </a:endParaRPr>
          </a:p>
          <a:p>
            <a:pPr lvl="2" marL="914400" algn="ctr">
              <a:spcBef>
                <a:spcPts val="451"/>
              </a:spcBef>
              <a:buClr>
                <a:srgbClr val="cc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cc0000"/>
              </a:solidFill>
              <a:latin typeface="Arial"/>
            </a:endParaRPr>
          </a:p>
          <a:p>
            <a:pPr lvl="3" marL="1371600" algn="ctr">
              <a:spcBef>
                <a:spcPts val="400"/>
              </a:spcBef>
              <a:buClr>
                <a:srgbClr val="cc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Arial"/>
              </a:rPr>
              <a:t>Fourth Outline Level</a:t>
            </a:r>
            <a:endParaRPr b="0" lang="en-US" sz="1600" spc="-1" strike="noStrike">
              <a:solidFill>
                <a:srgbClr val="cc0000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cc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cc0000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cc0000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c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271,15,&#24187;&#28783;&#29255; 15" TargetMode="External"/><Relationship Id="rId7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huangdi"/>
          <p:cNvPicPr/>
          <p:nvPr/>
        </p:nvPicPr>
        <p:blipFill>
          <a:blip r:embed="rId2"/>
          <a:stretch/>
        </p:blipFill>
        <p:spPr>
          <a:xfrm>
            <a:off x="108000" y="909720"/>
            <a:ext cx="1795320" cy="274320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324000" y="3645000"/>
            <a:ext cx="8820000" cy="16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宋体"/>
              </a:rPr>
              <a:t>   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我认为你告父即不孝父母，不孝即不忠，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不忠自己的父亲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，即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犯国法，犯法则死</a:t>
            </a:r>
            <a:r>
              <a:rPr b="1" lang="en-US" sz="2800" spc="-1" strike="noStrike">
                <a:solidFill>
                  <a:srgbClr val="9900ff"/>
                </a:solidFill>
                <a:latin typeface="宋体"/>
              </a:rPr>
              <a:t>!”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国王说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可怜的告发人被揪出去杀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请思考：国王的判案是“人治”还是“法治”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1763640" y="1052640"/>
            <a:ext cx="71294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ff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春秋时期，鲁国国王出巡，遇羊群失窃案，久查未决。忽有人来告发，使案成功告破。国王下令奖赏告发人。该人却要求从轻处罚窃羊贼，因为那贼是他父亲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 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“</a:t>
            </a:r>
            <a:r>
              <a:rPr b="1" lang="zh-CN" sz="2800" spc="-1" strike="noStrike" u="sng">
                <a:solidFill>
                  <a:srgbClr val="ff0000"/>
                </a:solidFill>
                <a:uFillTx/>
                <a:latin typeface="楷体_GB2312"/>
                <a:ea typeface="楷体_GB2312"/>
              </a:rPr>
              <a:t>什么？你竟敢告你父亲？”</a:t>
            </a:r>
            <a:r>
              <a:rPr b="1" lang="zh-CN" sz="2800" spc="-1" strike="noStrike">
                <a:solidFill>
                  <a:srgbClr val="9900ff"/>
                </a:solidFill>
                <a:latin typeface="宋体"/>
              </a:rPr>
              <a:t>国王怒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WordArt 5"/>
          <p:cNvSpPr txBox="1"/>
          <p:nvPr/>
        </p:nvSpPr>
        <p:spPr>
          <a:xfrm>
            <a:off x="6661080" y="44280"/>
            <a:ext cx="2376720" cy="838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宋体"/>
              </a:rPr>
              <a:t>阅读与思考</a:t>
            </a:r>
            <a:endParaRPr b="0" lang="en-US" sz="4000" spc="-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250920" y="404640"/>
            <a:ext cx="8229600" cy="101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宪法与普通法律的比较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/</a:t>
            </a:r>
            <a:r>
              <a:rPr b="1" lang="zh-CN" sz="3200" spc="-1" strike="noStrike" u="sng">
                <a:solidFill>
                  <a:srgbClr val="0000ff"/>
                </a:solidFill>
                <a:uFillTx/>
                <a:latin typeface="Arial"/>
              </a:rPr>
              <a:t>关系</a:t>
            </a:r>
            <a:r>
              <a:rPr b="1" lang="zh-CN" sz="3200" spc="-1" strike="noStrike" u="sng">
                <a:solidFill>
                  <a:srgbClr val="c02500"/>
                </a:solidFill>
                <a:uFillTx/>
                <a:latin typeface="Arial"/>
              </a:rPr>
              <a:t>  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324000" y="1628640"/>
          <a:ext cx="8229600" cy="3432240"/>
        </p:xfrm>
        <a:graphic>
          <a:graphicData uri="http://schemas.openxmlformats.org/drawingml/2006/table">
            <a:tbl>
              <a:tblPr/>
              <a:tblGrid>
                <a:gridCol w="1066680"/>
                <a:gridCol w="2286000"/>
                <a:gridCol w="2819520"/>
                <a:gridCol w="2057400"/>
              </a:tblGrid>
              <a:tr h="7524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Arial"/>
                          <a:ea typeface="微软雅黑"/>
                        </a:rPr>
                        <a:t>内   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Arial"/>
                          <a:ea typeface="微软雅黑"/>
                        </a:rPr>
                        <a:t>法律效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cc0000"/>
                          </a:solidFill>
                          <a:latin typeface="Arial"/>
                          <a:ea typeface="微软雅黑"/>
                        </a:rPr>
                        <a:t>制定和修改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400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宪法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39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0000ff"/>
                          </a:solidFill>
                          <a:latin typeface="Arial"/>
                          <a:ea typeface="黑体"/>
                        </a:rPr>
                        <a:t>普通法律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"/>
          <p:cNvSpPr/>
          <p:nvPr/>
        </p:nvSpPr>
        <p:spPr>
          <a:xfrm>
            <a:off x="1403280" y="2349360"/>
            <a:ext cx="236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家生活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根本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332000" y="3430440"/>
            <a:ext cx="259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国家生活中某一方面、某一领域的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708360" y="2421000"/>
            <a:ext cx="236232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最高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780000" y="3430440"/>
            <a:ext cx="2666880" cy="103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以宪法为基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隶书"/>
                <a:ea typeface="黑体"/>
              </a:rPr>
              <a:t>不得违背宪法，否则无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659640" y="2565360"/>
            <a:ext cx="1600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最严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588000" y="3860640"/>
            <a:ext cx="172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较为严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52360" y="5518080"/>
            <a:ext cx="83739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 u="sng">
                <a:solidFill>
                  <a:srgbClr val="ff0000"/>
                </a:solidFill>
                <a:uFillTx/>
                <a:latin typeface="Arial"/>
                <a:ea typeface="微软雅黑"/>
              </a:rPr>
              <a:t>相同点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：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黑体"/>
              </a:rPr>
              <a:t>都属于法律的范畴，都需要国家强制力保证实施，都是人民意志和利益的体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61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71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86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82872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宪法的修改程序与意义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楷体"/>
                <a:ea typeface="楷体"/>
              </a:rPr>
              <a:t>宪法的修改程序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由全国人民代表大会常务委员会或者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五分之一以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的全国人民代表大会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提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，并由全国人民代表大会以全体代表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三分之二以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的多数通过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普通法律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由全国人大代表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过半数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通过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"/>
              </a:rPr>
              <a:t>宪法修改程序的意义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保障宪法的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权威性和稳定性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，使国家长治久安，社会健康发展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826920" y="26028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宪法是国家的根本大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1000" fill="hold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1000"/>
                                        <p:tgtEl>
                                          <p:spTgt spid="1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12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612720" y="1125000"/>
            <a:ext cx="8578800" cy="452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阅读教材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P75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某县公安局设卡收费”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提问：该县公安局在国道上的设卡收费的行为是否合法？为什么？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28720" y="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二、宪法是最高的行为准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5" descr=""/>
          <p:cNvPicPr/>
          <p:nvPr/>
        </p:nvPicPr>
        <p:blipFill>
          <a:blip r:embed="rId4"/>
          <a:stretch/>
        </p:blipFill>
        <p:spPr>
          <a:xfrm>
            <a:off x="3419640" y="2133720"/>
            <a:ext cx="1204920" cy="120312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1187280" y="3357720"/>
            <a:ext cx="7848720" cy="93492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7160" bIns="47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微软雅黑"/>
                <a:ea typeface="微软雅黑"/>
              </a:rPr>
              <a:t>、宪法是一切国家机关的最高行为准则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08000" y="479736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国家机关和国家工作人员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得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宪法和法律禁止做的事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得拒绝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宪法和法律规定做的事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不能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宪法和法律未授权的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1116000" y="2925720"/>
            <a:ext cx="7850160" cy="1008000"/>
          </a:xfrm>
          <a:prstGeom prst="flowChartAlternateProcess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二、宪法是最高的行为准则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755640" y="2925720"/>
            <a:ext cx="8229600" cy="341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、宪法也是一切社会团体和组织以及全体公民的最高行为准则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任何组织和个人都不允许有超越宪法和法律的特权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违反国家宪法的行为就是违宪行为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1187280" y="1628640"/>
            <a:ext cx="7823520" cy="635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楷体"/>
              </a:rPr>
              <a:t>P75</a:t>
            </a:r>
            <a:r>
              <a:rPr b="1" lang="zh-CN" sz="4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38160" dir="0" blurRad="0" rotWithShape="0">
                    <a:srgbClr val="b2b2b2">
                      <a:alpha val="78000"/>
                    </a:srgbClr>
                  </a:outerShdw>
                </a:effectLst>
                <a:latin typeface="楷体"/>
              </a:rPr>
              <a:t>我们的好总理周恩来的故事 </a:t>
            </a:r>
            <a:endParaRPr b="1" lang="en-US" sz="4400" spc="1" strike="noStrike">
              <a:ln w="0">
                <a:noFill/>
              </a:ln>
              <a:solidFill>
                <a:srgbClr val="336699"/>
              </a:solidFill>
              <a:effectLst>
                <a:outerShdw dist="38160" dir="0" blurRad="0" rotWithShape="0">
                  <a:srgbClr val="b2b2b2">
                    <a:alpha val="78000"/>
                  </a:srgbClr>
                </a:outerShdw>
              </a:effectLst>
              <a:latin typeface="楷体"/>
              <a:ea typeface="楷体"/>
            </a:endParaRPr>
          </a:p>
        </p:txBody>
      </p:sp>
      <p:pic>
        <p:nvPicPr>
          <p:cNvPr id="132" name="图片 5" descr=""/>
          <p:cNvPicPr/>
          <p:nvPr/>
        </p:nvPicPr>
        <p:blipFill>
          <a:blip r:embed="rId4"/>
          <a:stretch/>
        </p:blipFill>
        <p:spPr>
          <a:xfrm>
            <a:off x="108000" y="1844640"/>
            <a:ext cx="1203120" cy="12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00000" y="40428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违宪行为表现（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P75 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信息平台）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828720" y="1701720"/>
            <a:ext cx="8136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一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国家机关的活动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与宪法规定的内容或程序相抵触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二是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公民的行为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违反宪法的规定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在我国，一切违宪行为都要受到追究，任何组织或个人都不得有超越宪法的特权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1000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1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1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12720" y="6919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宪法规范人们行为的方式：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044720" y="1773360"/>
            <a:ext cx="770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6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宪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提倡和肯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公民的某些行为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宪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禁止和否定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公民的某些行为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6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）宪法要求公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必须做出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某些行为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8" dur="1000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6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三、树立宪法意识</a:t>
            </a:r>
            <a:endParaRPr b="0" lang="en-US" sz="36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75564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、为什么要树立宪法意识？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宪法确认和保障了公民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基本权利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也规定了公民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基本义务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宪法是我们生活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基本依据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，也是我们行为的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最高准则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维护宪法的尊严，保证宪法的实施，是我们每个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公民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义不容辞</a:t>
            </a:r>
            <a:r>
              <a:rPr b="1" lang="zh-CN" sz="2800" spc="-1" strike="noStrike">
                <a:solidFill>
                  <a:srgbClr val="ff0000"/>
                </a:solidFill>
                <a:latin typeface="楷体"/>
                <a:ea typeface="楷体"/>
              </a:rPr>
              <a:t>的责任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2560" y="1628640"/>
            <a:ext cx="8077320" cy="11430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课本</a:t>
            </a:r>
            <a:r>
              <a:rPr b="0" lang="en-US" sz="3200" spc="-1" strike="noStrike">
                <a:solidFill>
                  <a:srgbClr val="ff0000"/>
                </a:solidFill>
                <a:latin typeface="Arial"/>
                <a:ea typeface="微软雅黑"/>
              </a:rPr>
              <a:t>75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微软雅黑"/>
              </a:rPr>
              <a:t>页“我做法官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" name=""/>
          <p:cNvGrpSpPr/>
          <p:nvPr/>
        </p:nvGrpSpPr>
        <p:grpSpPr>
          <a:xfrm>
            <a:off x="81000" y="2855880"/>
            <a:ext cx="9027720" cy="3534480"/>
            <a:chOff x="81000" y="2855880"/>
            <a:chExt cx="9027720" cy="3534480"/>
          </a:xfrm>
        </p:grpSpPr>
        <p:sp>
          <p:nvSpPr>
            <p:cNvPr id="141" name=""/>
            <p:cNvSpPr/>
            <p:nvPr/>
          </p:nvSpPr>
          <p:spPr>
            <a:xfrm>
              <a:off x="136080" y="2855880"/>
              <a:ext cx="865512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宪法第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19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规定：“国家推广全国通用的普通话”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136800" y="3432240"/>
              <a:ext cx="8796960" cy="10159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宪法第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6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规定：中华人民共和国公民有受教育的权利和义务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宪法第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9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规定：父母有扶养教育未成年子女的义务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136080" y="4801320"/>
              <a:ext cx="8972640" cy="4597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宪法第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8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规定：中华人民共和国妇女在政治、经济、文化、社会、家庭生活等各方面享有同男子平等的权利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1000" y="5880240"/>
              <a:ext cx="8972640" cy="51012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宪法第</a:t>
              </a:r>
              <a:r>
                <a:rPr b="1" lang="en-US" sz="2400" spc="-1" strike="noStrike">
                  <a:solidFill>
                    <a:srgbClr val="ff0000"/>
                  </a:solidFill>
                  <a:latin typeface="Arial"/>
                </a:rPr>
                <a:t>48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条规定：中华人民共和国公民有劳动的权利和</a:t>
              </a:r>
              <a:r>
                <a:rPr b="0" lang="zh-CN" sz="2400" spc="-1" strike="noStrike" u="sng">
                  <a:solidFill>
                    <a:srgbClr val="009999"/>
                  </a:solidFill>
                  <a:uFillTx/>
                  <a:latin typeface="Arial"/>
                  <a:hlinkClick r:id="rId6"/>
                </a:rPr>
                <a:t>义务</a:t>
              </a:r>
              <a:r>
                <a:rPr b="1" lang="zh-CN" sz="2400" spc="-1" strike="noStrike">
                  <a:solidFill>
                    <a:srgbClr val="ff0000"/>
                  </a:solidFill>
                  <a:latin typeface="Arial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8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2000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4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2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9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8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3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8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、青少年如何增强宪法意识？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39640" y="160020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认真学习宪法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严格遵守宪法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积极向群众宣传宪法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）勇于同违宪行为作斗争，维护宪法的尊严，保证宪法的实施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0" dur="indefinite" restart="never" nodeType="tmRoot">
          <p:childTnLst>
            <p:seq>
              <p:cTn id="381" dur="indefinite" nodeType="mainSeq">
                <p:childTnLst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10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1000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1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1000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1000" fill="hold"/>
                                        <p:tgtEl>
                                          <p:spTgt spid="1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4360" y="62028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P77 </a:t>
            </a: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：活动建议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68360" y="1844280"/>
            <a:ext cx="850752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法制教育宣传日（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12.4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）及其主题，为何他们都与宪法有关？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宪法是我国的根本大法，在法律体系中居于首位，是其他法律产生的依据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宪法规定国家生活中的根本问题，具有最高的法律效力，与宪法相抵触的法律是无效的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楷体"/>
                <a:ea typeface="楷体"/>
              </a:rPr>
              <a:t>）宪法是最高行为准则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0" dur="indefinite" restart="never" nodeType="tmRoot">
          <p:childTnLst>
            <p:seq>
              <p:cTn id="411" dur="indefinite" nodeType="mainSeq">
                <p:childTnLst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8" dur="1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1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28720" y="98064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动动脑：宪法是要保持相对稳定还是变化？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12720" y="2060640"/>
            <a:ext cx="7848720" cy="452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我国宪法是与时俱进的，反映了人民群众的根本利益；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lnSpc>
                <a:spcPct val="14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宪法的变化不宜频繁，因为它是我国的根本大法，关系到国家稳定的大局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1000" fill="hold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1000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7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1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0000" y="2599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建设社会主义法治国家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55640" y="1485720"/>
            <a:ext cx="8229600" cy="26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依法治国的重要性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72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实行依法治国，建设社会主义法治国家，是中国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特色社会主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重要内容，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全面建设小康社会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重要目标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08000" y="3718080"/>
            <a:ext cx="892656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猜谜游戏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排行我老大，国法之根本；子由母产生，冲突我有效。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这是我国的哪一部法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429080" y="4870440"/>
            <a:ext cx="2448000" cy="1440000"/>
          </a:xfrm>
          <a:prstGeom prst="horizontalScroll">
            <a:avLst>
              <a:gd name="adj" fmla="val 12500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《宪法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P77 </a:t>
            </a: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读读议议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612720" y="2551320"/>
            <a:ext cx="8423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8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五届全国人民代表大会第五次会议通过《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中华人民共和国宪法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88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七届全国人民代表大会第一次会议通过的《中华人民共和国宪法修正案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9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八届全国人民代表大会第一次会议通过的《中华人民共和国宪法修正案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999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5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九届全国人民代表大会第二次会议通过的《中华人民共和国宪法修正案》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00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年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4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日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第十届全国人民代表大会第二次会议通过的《中华人民共和国宪法修正案》修正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65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课堂练习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8000" y="1486080"/>
            <a:ext cx="89517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选择题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马克思说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’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是法律的法律’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句话的意思是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是所有法律的总和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具有最高的法律效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是规定国家所有问题的法律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和普通法律的地位平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、宪法规定的内容包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的根本任务和根本制度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国家的性质                   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公民的基本权利和义务  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中国共产党党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6663240" y="2492280"/>
            <a:ext cx="7308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B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086880" y="4437000"/>
            <a:ext cx="22550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ff3300"/>
                </a:solidFill>
                <a:latin typeface="Arial"/>
              </a:rPr>
              <a:t>A B C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9" dur="indefinite" restart="never" nodeType="tmRoot">
          <p:childTnLst>
            <p:seq>
              <p:cTn id="450" dur="indefinite" nodeType="mainSeq">
                <p:childTnLst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533520" y="1905120"/>
            <a:ext cx="82296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00000" y="1557360"/>
            <a:ext cx="800100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问答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一次法律知识竞赛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小明抽到这样一道题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在我国的法律家族中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宪法是“龙头老大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请你帮他找出具体的理由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24000" y="4005360"/>
            <a:ext cx="79246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1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宪法规定的内容是国家生活中最根本的问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2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宪法具有最高的法律效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(3)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宪法的制定和修改的程序比普通法律更严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1" dur="indefinite" restart="never" nodeType="tmRoot">
          <p:childTnLst>
            <p:seq>
              <p:cTn id="462" dur="indefinite" nodeType="mainSeq">
                <p:childTnLst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7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86920" y="2060640"/>
            <a:ext cx="698508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00"/>
                </a:solidFill>
                <a:latin typeface="Arial"/>
              </a:rPr>
              <a:t>第一节 从尊重宪法开始</a:t>
            </a:r>
            <a:endParaRPr b="1" lang="en-US" sz="40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402920" y="3212640"/>
            <a:ext cx="648036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依宪治国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依法治国的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核心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73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2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28720" y="62028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根据以下问题，学习教材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P73-77;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640" y="170136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我国法律体系是什么？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宪法是什么？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何理解“宪法是国家的根本大法”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?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lvl="1" marL="74304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如何理解“宪法是最高的行为准则”？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为什么要尊重宪法、树立宪法意识？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  <a:p>
            <a:pPr marL="343080" indent="0">
              <a:lnSpc>
                <a:spcPct val="12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4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怎样树立宪法意识？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252000" y="2638080"/>
            <a:ext cx="3527640" cy="341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国的法律体系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0000"/>
                </a:solidFill>
                <a:latin typeface="Arial"/>
              </a:rPr>
              <a:t>以宪法为核心的中国特色社会主义法律体系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4"/>
          <a:stretch/>
        </p:blipFill>
        <p:spPr>
          <a:xfrm>
            <a:off x="3924360" y="1413000"/>
            <a:ext cx="3657600" cy="544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3419640" y="404640"/>
            <a:ext cx="5486400" cy="787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李炬打官司</a:t>
            </a:r>
            <a:r>
              <a:rPr b="1" lang="en-US" sz="5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宋体"/>
              </a:rPr>
              <a:t>···</a:t>
            </a:r>
            <a:endParaRPr b="1" lang="en-US" sz="5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556000" y="2060640"/>
            <a:ext cx="6153120" cy="1584360"/>
            <a:chOff x="2556000" y="2060640"/>
            <a:chExt cx="6153120" cy="1584360"/>
          </a:xfrm>
        </p:grpSpPr>
        <p:sp>
          <p:nvSpPr>
            <p:cNvPr id="92" name=""/>
            <p:cNvSpPr/>
            <p:nvPr/>
          </p:nvSpPr>
          <p:spPr>
            <a:xfrm>
              <a:off x="7614000" y="2636640"/>
              <a:ext cx="1095120" cy="100836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000000"/>
                  </a:solidFill>
                  <a:latin typeface="Arial"/>
                </a:rPr>
                <a:t>村规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423400" y="2204640"/>
              <a:ext cx="1537200" cy="1312920"/>
            </a:xfrm>
            <a:prstGeom prst="rect">
              <a:avLst/>
            </a:prstGeom>
            <a:noFill/>
            <a:ln w="0">
              <a:noFill/>
            </a:ln>
            <a:effectLst>
              <a:outerShdw dist="153753" dir="2700000" blurRad="0" rotWithShape="0">
                <a:srgbClr val="c0c0c0">
                  <a:alpha val="7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8000" spc="-1" strike="noStrike">
                  <a:solidFill>
                    <a:srgbClr val="ff0000"/>
                  </a:solidFill>
                  <a:latin typeface="Arial"/>
                </a:rPr>
                <a:t>VS</a:t>
              </a:r>
              <a:endParaRPr b="0" lang="en-US" sz="8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4" name=""/>
            <p:cNvGrpSpPr/>
            <p:nvPr/>
          </p:nvGrpSpPr>
          <p:grpSpPr>
            <a:xfrm>
              <a:off x="2556000" y="2060640"/>
              <a:ext cx="2325960" cy="1295640"/>
              <a:chOff x="2556000" y="2060640"/>
              <a:chExt cx="2325960" cy="1295640"/>
            </a:xfrm>
          </p:grpSpPr>
          <p:sp>
            <p:nvSpPr>
              <p:cNvPr id="95" name=""/>
              <p:cNvSpPr/>
              <p:nvPr/>
            </p:nvSpPr>
            <p:spPr>
              <a:xfrm>
                <a:off x="3786840" y="2205360"/>
                <a:ext cx="1095120" cy="10083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6000" spc="-1" strike="noStrike">
                    <a:solidFill>
                      <a:srgbClr val="000000"/>
                    </a:solidFill>
                    <a:latin typeface="Arial"/>
                  </a:rPr>
                  <a:t>宪法</a:t>
                </a:r>
                <a:endParaRPr b="0" lang="en-US" sz="6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96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2556000" y="2060640"/>
                <a:ext cx="925200" cy="129564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97" name=""/>
          <p:cNvSpPr/>
          <p:nvPr/>
        </p:nvSpPr>
        <p:spPr>
          <a:xfrm>
            <a:off x="250920" y="3860640"/>
            <a:ext cx="7129440" cy="1068840"/>
          </a:xfrm>
          <a:prstGeom prst="rect">
            <a:avLst/>
          </a:prstGeom>
          <a:noFill/>
          <a:ln w="12600">
            <a:solidFill>
              <a:srgbClr val="ff0000"/>
            </a:solidFill>
            <a:miter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宪法是什么样的法律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村委会的行为违反了宪法的什么规定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1476360" y="5517360"/>
            <a:ext cx="3745080" cy="1081080"/>
          </a:xfrm>
          <a:prstGeom prst="wedgeRoundRectCallout">
            <a:avLst>
              <a:gd name="adj1" fmla="val -1388"/>
              <a:gd name="adj2" fmla="val 79949"/>
              <a:gd name="adj3" fmla="val 16667"/>
            </a:avLst>
          </a:prstGeom>
          <a:solidFill>
            <a:srgbClr val="ffff99"/>
          </a:solidFill>
          <a:ln w="12600">
            <a:solidFill>
              <a:srgbClr val="eaeaea"/>
            </a:solidFill>
            <a:beve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宪法是法律的法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马克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 hidden="1"/>
          <p:cNvSpPr/>
          <p:nvPr/>
        </p:nvSpPr>
        <p:spPr>
          <a:xfrm>
            <a:off x="339840" y="295200"/>
            <a:ext cx="8408880" cy="581400"/>
          </a:xfrm>
          <a:prstGeom prst="rect">
            <a:avLst/>
          </a:prstGeom>
          <a:noFill/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 u="sng">
                <a:solidFill>
                  <a:srgbClr val="000000"/>
                </a:solidFill>
                <a:uFillTx/>
                <a:latin typeface="黑体"/>
                <a:ea typeface="黑体"/>
              </a:rPr>
              <a:t>宪法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是我国的根本大法，是“总章程”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 hidden="1"/>
          <p:cNvSpPr/>
          <p:nvPr/>
        </p:nvSpPr>
        <p:spPr>
          <a:xfrm flipV="1">
            <a:off x="1187280" y="3420720"/>
            <a:ext cx="5546880" cy="1736640"/>
          </a:xfrm>
          <a:prstGeom prst="wedgeRoundRectCallout">
            <a:avLst>
              <a:gd name="adj1" fmla="val -43000"/>
              <a:gd name="adj2" fmla="val 118388"/>
              <a:gd name="adj3" fmla="val 16667"/>
            </a:avLst>
          </a:prstGeom>
          <a:solidFill>
            <a:srgbClr val="ffff99"/>
          </a:solidFill>
          <a:ln w="12600">
            <a:solidFill>
              <a:srgbClr val="eaeaea"/>
            </a:solidFill>
            <a:miter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排行我最大，国法之根本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子由母产生，冲突我有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4920" y="2133720"/>
            <a:ext cx="9074160" cy="52128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内容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上来讲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规定了我国的国家性质、根本制度、根本任务等国家生活中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最根本、最重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方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920" y="3357720"/>
            <a:ext cx="9109080" cy="103284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法律效力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上来说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在我国法律体系中居于首要地位，是我国的根本法，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是其他法律产生的依据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具有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最高的法律效力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，与宪法相抵触的法律是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无效的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5157720"/>
            <a:ext cx="9074160" cy="563760"/>
          </a:xfrm>
          <a:prstGeom prst="rect">
            <a:avLst/>
          </a:prstGeom>
          <a:solidFill>
            <a:srgbClr val="ccffcc"/>
          </a:solidFill>
          <a:ln w="0">
            <a:noFill/>
          </a:ln>
          <a:effectLst>
            <a:outerShdw dist="153753" dir="2700000" blurRad="0" rotWithShape="0">
              <a:srgbClr val="c0c0c0">
                <a:alpha val="7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（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）从</a:t>
            </a:r>
            <a:r>
              <a:rPr b="1" lang="zh-CN" sz="2800" spc="-1" strike="noStrike" u="sng">
                <a:solidFill>
                  <a:srgbClr val="0000ff"/>
                </a:solidFill>
                <a:uFillTx/>
                <a:latin typeface="黑体"/>
                <a:ea typeface="黑体"/>
              </a:rPr>
              <a:t>制定和修改程序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上来讲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宪法比其他法律更为严格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39640" y="4428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宪法是国家的根本大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107640" y="1197000"/>
            <a:ext cx="8218440" cy="60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、为什么说宪法是国家的根本大法？ </a:t>
            </a:r>
            <a:r>
              <a:rPr b="1" lang="zh-CN" sz="3200" spc="-1" strike="noStrike">
                <a:solidFill>
                  <a:srgbClr val="cc0000"/>
                </a:solidFill>
                <a:latin typeface="Arial"/>
              </a:rPr>
              <a:t>P74</a:t>
            </a:r>
            <a:endParaRPr b="0" lang="en-US" sz="3200" spc="-1" strike="noStrike">
              <a:solidFill>
                <a:srgbClr val="cc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10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828720" y="1628280"/>
            <a:ext cx="8229600" cy="45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我国国家性质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中华人民共和国是工人阶级领导的、以工农联盟为基础的人民民主专政的社会主义国家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本制度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楷体"/>
              </a:rPr>
              <a:t>社会主义制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是我国的根本制度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根本任务：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"/>
              </a:rPr>
              <a:t>沿着建设有中国特色社会主义的道路，集中力量进行社会主义现代化建设。</a:t>
            </a:r>
            <a:endParaRPr b="0" lang="en-US" sz="2800" spc="-1" strike="noStrike">
              <a:solidFill>
                <a:srgbClr val="cc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826920" y="26028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微软雅黑"/>
              </a:rPr>
              <a:t>一、宪法是国家的根本大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10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68360" y="5589360"/>
            <a:ext cx="8229600" cy="1143000"/>
          </a:xfrm>
          <a:prstGeom prst="rect">
            <a:avLst/>
          </a:prstGeom>
          <a:solidFill>
            <a:srgbClr val="c9c2a7">
              <a:alpha val="15000"/>
            </a:srgbClr>
          </a:solidFill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2500"/>
                </a:solidFill>
                <a:latin typeface="Arial"/>
              </a:rPr>
              <a:t>上述材料说明了什么问题？</a:t>
            </a:r>
            <a:endParaRPr b="0" lang="en-US" sz="3200" spc="-1" strike="noStrike">
              <a:solidFill>
                <a:srgbClr val="c025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904320"/>
            <a:ext cx="8713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《刑法》第一条 为了惩罚犯罪，保护人民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根据宪法，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结合我国同犯罪作斗争的具体经验及实际情况，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黑体"/>
              </a:rPr>
              <a:t>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52360" y="2558160"/>
            <a:ext cx="8785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教育法》第一条 为了发展教育事业，提高全民族的素质，促进社会主义物质文明和精神文明建设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根据宪法，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52360" y="3573360"/>
            <a:ext cx="8786880" cy="947880"/>
          </a:xfrm>
          <a:prstGeom prst="rect">
            <a:avLst/>
          </a:prstGeom>
          <a:noFill/>
          <a:ln w="38160">
            <a:solidFill>
              <a:srgbClr val="ffffff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7160" bIns="4716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《民法通则》第一条的规定，为了适应社会主义现代化建设事业发展的需要，保障公民、法人的合法的民事权益，正确调整民事关系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,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根据宪法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和我国实际情况，总结民事活动的实践经验，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制定本法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06T01:30:27Z</dcterms:created>
  <dc:creator>Administrator</dc:creator>
  <dc:description/>
  <dc:language>en-US</dc:language>
  <cp:lastModifiedBy/>
  <dcterms:modified xsi:type="dcterms:W3CDTF">2014-04-23T17:30:31Z</dcterms:modified>
  <cp:revision>0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567</vt:lpwstr>
  </property>
</Properties>
</file>