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589-502D-4C02-AFE8-0D4D5333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6D7-62CD-41DF-9E6E-6903868F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5FA-3A11-4564-BD69-AB827E7F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E38-1C2B-46F0-B2D0-5FAF506B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5EB9-CE3A-4530-8850-A15A0E22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0DB3-119F-4B0D-BB7E-77A98D75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91E2-14B1-4208-BC76-2C0027E4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6762-1F54-48B0-B93E-BB00512D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DECE-F865-41F8-AB82-906A61BD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CB13-A6D5-44AE-A04A-E359AAE7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4C66-8E35-4A03-9705-41B16821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605-373F-4623-A0B1-2E462BD4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AAB8-6E53-4470-B2DA-9A1206DE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AB3C-93E0-4EA0-A222-9D83AEB7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16D3-3359-411A-AE59-EEF6CC08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71E0-69B0-4BAA-991C-C9BF1108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1DBC-ACF4-48CB-AE98-721E539E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B787-2922-434E-8354-94A4CE45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81C1B-F4E9-4A93-9F19-9331CDF0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AD4C-4056-4DEB-A249-833E755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4939-29D7-4390-B8BB-E2771BA7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C550-F6AF-4544-84F8-252794E5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754-7B19-4C72-B595-4C2DA5B4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DC57-A813-45C2-92ED-260A5B36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CEB0-61C9-4E9F-B56B-45102359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C5D9-14B2-4FCE-9C73-D2206CBE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6253-DBDA-4F08-A6D2-1CBC1DFB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DF0E9-5563-49ED-B069-0E64D917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D67E-1BBD-4270-8C14-76FC528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9545-3120-4905-B7F8-535CC150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B038-2AB8-4C55-8FE3-B6C8256F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A46D-5F93-4D8E-A1A5-5D67B151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61DA-AED6-40C3-92F3-8752567C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407-B182-4206-BC01-08A19ECE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26DA-2230-4725-A814-3059B1CE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D14D6-7C98-4308-B21D-4E777EBB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A4B3-913F-405D-A67F-F3942C71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5CAF-A007-4C0B-85D2-F6FF0434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EC8F2-C446-437B-B2F0-4BC9CF1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40FB-D9D4-472A-BDFF-FFE0EAAF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A1ED-9605-442F-9766-005A9676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9926-E7E1-4C5E-9768-E11FB309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5EF8-3DB9-4FF0-9D90-3BC829D7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E01ED-92F4-4B23-970C-32CE3785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FDF-D92D-4C3A-AB78-FD449066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D663F-A682-48A0-A1DE-80324A3B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C8A27-8783-47A1-9A77-C110573C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2FBED-6AC3-4C7C-942E-08C36A3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AC61-438F-4097-BFCA-E8788206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00C99-4B99-4FB3-BEF1-7B54E370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6834-B26E-48C0-AF17-FFC6A2C4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7B594-7DBF-44B3-BBE0-BFA21268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F0044-4135-4549-A2DA-A22373F3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CD486-47F4-4401-AA2B-269C00E6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08788-6EEB-47E6-BF2F-DFF33F52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739-4EF4-44AE-B7CF-CFEEA564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A898A-15DF-4227-834B-5A5411BD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2D690-977C-4906-98BF-A74E6FD5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30266-6F51-4BD5-965A-BBD44C10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BD6A0-1E5E-460F-BCF9-1ADDA9F4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56381-B4FC-477D-BB47-06704F48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85AB7-3ACF-49C1-9245-A5FF55AD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ECDCE-87D0-4020-B9E4-CF75E5B2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2A8A9-3AEF-48AA-A9E3-AC54D20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C5043-ADCA-48E0-8103-74200485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9278-00D8-4975-81F0-10CC37EE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12D-3368-4D16-AC04-AB23171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E0DE3-AAFE-492B-8689-6AC37230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39BFF-C089-4722-B68F-E0078372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71823-773D-4C80-8E85-F45A2259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AA551-B0B7-4ACE-B2C6-207301E9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8338A-124E-4FB0-B851-4390B3B0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E9E06-1BC8-4F16-93AF-45F25F3D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1F4BD-1968-4228-91C8-7CE2008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04073-B3C3-4726-A1B9-598264FD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4E048-4347-4545-A8F9-D5DEB781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C4C48-51B1-4DF9-94B0-493120B3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CE6-7AE4-4E44-83F2-D25BD58E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75BF9-D4DC-4FDB-9D15-42C4A656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8D0ED-EDD5-40A7-99F1-515B7F70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C79F5-2AED-4133-A88B-2B27A091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F962B-91C0-4351-BA7A-EE8A8871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0B2D8-F3E9-4B4A-A847-EFA379E6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2E9-FE96-45EA-B663-BFA30B3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C232-4FC9-4C6F-B206-06D0231E83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A210-6D66-4F6A-8010-CC8AAB5979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4A86-B9A9-4917-A90D-47A0ABE507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E72A-70A1-4753-AF5E-09F5CCE222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F85A-65F3-4A76-A67F-07DA69BEB006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C08E-9942-484A-B277-0095EE2408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6FEF-90D1-4690-A177-2CF1FAECBF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262626"/>
                </a:solidFill>
                <a:latin typeface="Calibri Light"/>
              </a:rPr>
              <a:t>       </a:t>
            </a:r>
            <a:r>
              <a:rPr b="0" lang="zh-CN" sz="8000" spc="-1" strike="noStrike">
                <a:solidFill>
                  <a:srgbClr val="262626"/>
                </a:solidFill>
                <a:latin typeface="Calibri Light"/>
              </a:rPr>
              <a:t>听话照做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637052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5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0000"/>
                </a:solidFill>
                <a:latin typeface="Calibri Light"/>
              </a:rPr>
              <a:t>           </a:t>
            </a:r>
            <a:r>
              <a:rPr b="0" lang="zh-CN" sz="5400" spc="-1" strike="noStrike">
                <a:solidFill>
                  <a:srgbClr val="ff0000"/>
                </a:solidFill>
                <a:latin typeface="Calibri Light"/>
              </a:rPr>
              <a:t>美食品尝会</a:t>
            </a:r>
            <a:br>
              <a:rPr sz="5400"/>
            </a:b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7" name="内容占位符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859280" cy="402300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4" descr=""/>
          <p:cNvPicPr/>
          <p:nvPr/>
        </p:nvPicPr>
        <p:blipFill>
          <a:blip r:embed="rId2"/>
          <a:stretch/>
        </p:blipFill>
        <p:spPr>
          <a:xfrm>
            <a:off x="4884840" y="2770200"/>
            <a:ext cx="40669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 Light"/>
              </a:rPr>
              <a:t>         </a:t>
            </a:r>
            <a:br>
              <a:rPr sz="5400"/>
            </a:br>
            <a:r>
              <a:rPr b="0" lang="en-US" sz="6000" spc="-1" strike="noStrike">
                <a:solidFill>
                  <a:srgbClr val="ff0000"/>
                </a:solidFill>
                <a:latin typeface="Calibri Light"/>
              </a:rPr>
              <a:t>         </a:t>
            </a:r>
            <a:r>
              <a:rPr b="0" lang="zh-CN" sz="6000" spc="-1" strike="noStrike">
                <a:solidFill>
                  <a:srgbClr val="ff0000"/>
                </a:solidFill>
                <a:latin typeface="Calibri Light"/>
              </a:rPr>
              <a:t>辅导员总结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280" y="223920"/>
            <a:ext cx="754380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0000"/>
                </a:solidFill>
                <a:latin typeface="Calibri Light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Calibri Light"/>
              </a:rPr>
              <a:t>我们的节日：三月三</a:t>
            </a:r>
            <a:br>
              <a:rPr sz="5400"/>
            </a:b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9280" y="18446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五（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）班主题队会暨第二届美食节品尝会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                                  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8" name="图片 1" descr=""/>
          <p:cNvPicPr/>
          <p:nvPr/>
        </p:nvPicPr>
        <p:blipFill>
          <a:blip r:embed="rId1"/>
          <a:stretch/>
        </p:blipFill>
        <p:spPr>
          <a:xfrm>
            <a:off x="49320" y="2997360"/>
            <a:ext cx="4478400" cy="374472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2" descr=""/>
          <p:cNvPicPr/>
          <p:nvPr/>
        </p:nvPicPr>
        <p:blipFill>
          <a:blip r:embed="rId2"/>
          <a:stretch/>
        </p:blipFill>
        <p:spPr>
          <a:xfrm>
            <a:off x="4527720" y="2997360"/>
            <a:ext cx="46162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50"/>
                </a:solidFill>
                <a:latin typeface="Calibri Light"/>
              </a:rPr>
              <a:t>简介壮族“三月三”的来历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三月三，指的是农历三月初三。 来历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壮家人过三月三，是由于他们居住地区海拔较低，气候长年酷热，而就在春耕未央的农历三月时节，正是风和日丽、气候温和的一年里最舒适的日子，村村寨寨的乡里乡亲就趁时机来个大约会。唱山歌小调、撑竹筏、泼水嬉戏、逛三月街，热热闹闹成全大家的开心。 风俗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这一天，家家户户都用嫩绿的枫叶、红兰草等煮成的红、黄、蓝、紫、白五色的米饭，人们在门楣上和房屋周围插上一枝枝枫树叶，在村头寨尾搭起布棚，在布棚下摆上五色的米饭等供品，男女老少围着布棚唱歌，赶歌迂，老年人还把染色的熟鸡蛋装在小网兜里，挂在小孩的胸前，男女青年在赶歌迂时，还要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碰蛋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”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Calibri Light"/>
              </a:rPr>
              <a:t>民间歌节，歌王</a:t>
            </a:r>
            <a:r>
              <a:rPr b="0" lang="en-US" sz="4800" spc="-1" strike="noStrike">
                <a:solidFill>
                  <a:srgbClr val="00b0f0"/>
                </a:solidFill>
                <a:latin typeface="Calibri Light"/>
              </a:rPr>
              <a:t>----</a:t>
            </a:r>
            <a:r>
              <a:rPr b="0" lang="zh-CN" sz="4800" spc="-1" strike="noStrike">
                <a:solidFill>
                  <a:srgbClr val="00b0f0"/>
                </a:solidFill>
                <a:latin typeface="Calibri Light"/>
              </a:rPr>
              <a:t>刘三姐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7030a0"/>
                </a:solidFill>
                <a:latin typeface="Calibri"/>
              </a:rPr>
              <a:t>歌节又叫歌圩节，壮语称“窝埠坡”或“窝坡”，原意为去歌场唱歌。歌圩是壮族人民自古就有的风尚。古老的壮族长期在山野从事繁重的农耕劳动，为了打破可怕的寂寞、提高劳动效率，在各个山头劳作的人们开始相互对歌。人们用歌声表达对生活的热爱、对劳动的赞美，随后他们又借助歌声相互表情达意，或结婚姻，或交朋友，增加了生活的乐趣。壮民们以歌声显示自己的才华和心灵的高尚。因此，壮族人个个能歌善歌。</a:t>
            </a:r>
            <a:r>
              <a:rPr b="0" lang="en-US" sz="1900" spc="-1" strike="noStrike">
                <a:solidFill>
                  <a:srgbClr val="7030a0"/>
                </a:solidFill>
                <a:latin typeface="Calibri"/>
              </a:rPr>
              <a:t> </a:t>
            </a:r>
            <a:r>
              <a:rPr b="0" lang="zh-CN" sz="1900" spc="-1" strike="noStrike">
                <a:solidFill>
                  <a:srgbClr val="7030a0"/>
                </a:solidFill>
                <a:latin typeface="Calibri"/>
              </a:rPr>
              <a:t>壮族关于歌节起源有许多动人的传说。其中以刘三姐的故事最为著名和普遍认同。刘三姐原来并不叫刘三姐，而叫刘三妹，是唐代出现的歌仙。故事流传到后来，人们把刘三妹改成了刘三姐。刘三姐天生一副圆润的好歌喉，聪明机灵。她经常用山歌歌颂劳动与爱情、揭露和讽刺地主的剥削压迫。刘三姐的行为赢得了贫苦大众的赞赏和支持，她成了人们心中的歌仙，但同时她也成了地主的眼中钉。一年三月初三，刘三姐上山砍柴，地主派人砍断了她攀爬的山藤，刘三姐坠崖而亡。人们为了纪念这位歌仙，就在她遇难这天聚会唱歌，一唱就是三天三夜，这便形成了歌节。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 Light"/>
              </a:rPr>
              <a:t>壮族三月三习俗</a:t>
            </a:r>
            <a:br>
              <a:rPr sz="5400"/>
            </a:b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Calibri"/>
              </a:rPr>
              <a:t>　</a:t>
            </a:r>
            <a:r>
              <a:rPr b="0" lang="en-US" sz="5600" spc="-1" strike="noStrike">
                <a:solidFill>
                  <a:srgbClr val="ffff00"/>
                </a:solidFill>
                <a:latin typeface="Calibri"/>
              </a:rPr>
              <a:t>1.</a:t>
            </a:r>
            <a:r>
              <a:rPr b="0" lang="zh-CN" sz="5600" spc="-1" strike="noStrike">
                <a:solidFill>
                  <a:srgbClr val="ffff00"/>
                </a:solidFill>
                <a:latin typeface="Calibri"/>
              </a:rPr>
              <a:t>五色糯米饭</a:t>
            </a:r>
            <a:r>
              <a:rPr b="0" lang="en-US" sz="5600" spc="-1" strike="noStrike">
                <a:solidFill>
                  <a:srgbClr val="ffff00"/>
                </a:solidFill>
                <a:latin typeface="Calibri"/>
              </a:rPr>
              <a:t>2.</a:t>
            </a:r>
            <a:r>
              <a:rPr b="0" lang="zh-CN" sz="5600" spc="-1" strike="noStrike">
                <a:solidFill>
                  <a:srgbClr val="ffff00"/>
                </a:solidFill>
                <a:latin typeface="Calibri"/>
              </a:rPr>
              <a:t>抢花炮</a:t>
            </a:r>
            <a:endParaRPr b="0" lang="en-US" sz="5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00"/>
                </a:solidFill>
                <a:latin typeface="Calibri"/>
              </a:rPr>
              <a:t>3.</a:t>
            </a:r>
            <a:r>
              <a:rPr b="0" lang="zh-CN" sz="5600" spc="-1" strike="noStrike">
                <a:solidFill>
                  <a:srgbClr val="ffff00"/>
                </a:solidFill>
                <a:latin typeface="Calibri"/>
              </a:rPr>
              <a:t>绣球传情</a:t>
            </a:r>
            <a:endParaRPr b="0" lang="en-US" sz="5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00"/>
                </a:solidFill>
                <a:latin typeface="Calibri"/>
              </a:rPr>
              <a:t>4.</a:t>
            </a:r>
            <a:r>
              <a:rPr b="0" lang="zh-CN" sz="5600" spc="-1" strike="noStrike">
                <a:solidFill>
                  <a:srgbClr val="ffff00"/>
                </a:solidFill>
                <a:latin typeface="Calibri"/>
              </a:rPr>
              <a:t>跳竹竿舞 </a:t>
            </a:r>
            <a:r>
              <a:rPr b="0" lang="en-US" sz="5600" spc="-1" strike="noStrike">
                <a:solidFill>
                  <a:srgbClr val="ffff00"/>
                </a:solidFill>
                <a:latin typeface="Calibri"/>
              </a:rPr>
              <a:t>5.</a:t>
            </a:r>
            <a:r>
              <a:rPr b="0" lang="zh-CN" sz="5600" spc="-1" strike="noStrike">
                <a:solidFill>
                  <a:srgbClr val="ffff00"/>
                </a:solidFill>
                <a:latin typeface="Calibri"/>
              </a:rPr>
              <a:t>对歌谈情</a:t>
            </a:r>
            <a:endParaRPr b="0" lang="en-US" sz="5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00"/>
                </a:solidFill>
                <a:latin typeface="Calibri"/>
              </a:rPr>
              <a:t>6.</a:t>
            </a:r>
            <a:r>
              <a:rPr b="0" lang="zh-CN" sz="5600" spc="-1" strike="noStrike">
                <a:solidFill>
                  <a:srgbClr val="ffff00"/>
                </a:solidFill>
                <a:latin typeface="Calibri"/>
              </a:rPr>
              <a:t>打铜鼓</a:t>
            </a:r>
            <a:r>
              <a:rPr b="0" lang="en-US" sz="56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5600" spc="-1" strike="noStrike">
                <a:solidFill>
                  <a:srgbClr val="ffff00"/>
                </a:solidFill>
                <a:latin typeface="Calibri"/>
              </a:rPr>
              <a:t>7.</a:t>
            </a:r>
            <a:r>
              <a:rPr b="0" lang="zh-CN" sz="5600" spc="-1" strike="noStrike">
                <a:solidFill>
                  <a:srgbClr val="ffff00"/>
                </a:solidFill>
                <a:latin typeface="Calibri"/>
              </a:rPr>
              <a:t>碰彩蛋</a:t>
            </a:r>
            <a:endParaRPr b="0" lang="en-US" sz="5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Calibri Light"/>
              </a:rPr>
              <a:t>壮族生活习惯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生活习惯：壮族喜欢依山傍水而居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,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传统民居有楼居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,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半楼居和地居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,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壮族主食是大米和玉米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,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用大米制成各种粉糕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.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以生鱼片为佳肴。三月三吃五色饭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.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烤整猪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.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白斩鸡也是壮族以待客的特色佳肴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.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壮族也是以农业为主的。民间传统歌节是歌圩节。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9" name="内容占位符 3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1" name="内容占位符 3" descr=""/>
          <p:cNvPicPr/>
          <p:nvPr/>
        </p:nvPicPr>
        <p:blipFill>
          <a:blip r:embed="rId1"/>
          <a:stretch/>
        </p:blipFill>
        <p:spPr>
          <a:xfrm>
            <a:off x="22320" y="18900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3" name="内容占位符 3" descr=""/>
          <p:cNvPicPr/>
          <p:nvPr/>
        </p:nvPicPr>
        <p:blipFill>
          <a:blip r:embed="rId1"/>
          <a:stretch/>
        </p:blipFill>
        <p:spPr>
          <a:xfrm>
            <a:off x="0" y="1846440"/>
            <a:ext cx="914400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4:16:43Z</dcterms:created>
  <dc:creator>为您服务教育网 http://www.wsbedu.com/</dc:creator>
  <dc:description/>
  <dc:language>en-US</dc:language>
  <cp:lastModifiedBy>Administrator</cp:lastModifiedBy>
  <dcterms:modified xsi:type="dcterms:W3CDTF">2017-03-30T03:22:59Z</dcterms:modified>
  <cp:revision>82</cp:revision>
  <dc:subject/>
  <dc:title>幻灯片 1</dc:title>
</cp:coreProperties>
</file>