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B12-F086-464B-8F4A-83169B12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CAF-4092-4639-9FCA-1761519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6A6-E15B-4A89-AE0D-390BDB5F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36E-900F-442D-B178-298BECDE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25A-1039-4CA7-AC62-C5FD600C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F36-E979-41DA-9466-0EFC1EE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9A9-094C-4340-9883-AD70B6AD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3CB-2A20-4203-BCDB-95960CC0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4964-05E1-4B23-B4F0-1119D620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95C-D0B1-4AEE-94E6-7383906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235B-CB5D-45F7-9AAA-03ECB14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F4F-BD2A-412E-831A-21D06EC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2BA0-93BB-4B76-AE84-FEF5811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A08-023B-45DD-A114-4BA28A9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79D3-9075-44D6-9DB3-0234297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A8C5-A133-47FF-98C0-F05BC47D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1DE-DF8A-4CE4-B6E1-AF6CD9B0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CAC-A3F6-4421-82F5-8CB1AF44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62C-8CCE-4A43-9F78-BBF5CCCA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C36-245B-4C7D-B9FA-3B01EFC5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17C-628F-4129-9EB7-75BA22A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FF5-93AD-4136-9884-FD56A87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8E5-557F-4E2E-B388-BFD68EF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B49-FFD3-4867-84A4-2A2C555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1377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任意多边形 101378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任意多边形 101379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3626-42C7-4C9F-B876-4B430FB001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02401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任意多边形 102402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任意多边形 102403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C16-2CC2-466B-B087-1EB3E3A870AA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415228.htm" TargetMode="External"/><Relationship Id="rId2" Type="http://schemas.openxmlformats.org/officeDocument/2006/relationships/hyperlink" Target="http://baike.baidu.com/view/60002.htm" TargetMode="External"/><Relationship Id="rId3" Type="http://schemas.openxmlformats.org/officeDocument/2006/relationships/hyperlink" Target="http://baike.baidu.com/view/78391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9276.htm" TargetMode="External"/><Relationship Id="rId2" Type="http://schemas.openxmlformats.org/officeDocument/2006/relationships/hyperlink" Target="http://baike.baidu.com/view/15004.htm" TargetMode="External"/><Relationship Id="rId3" Type="http://schemas.openxmlformats.org/officeDocument/2006/relationships/hyperlink" Target="http://baike.baidu.com/view/447279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18498.htm" TargetMode="External"/><Relationship Id="rId2" Type="http://schemas.openxmlformats.org/officeDocument/2006/relationships/hyperlink" Target="http://baike.baidu.com/view/267188.htm" TargetMode="External"/><Relationship Id="rId3" Type="http://schemas.openxmlformats.org/officeDocument/2006/relationships/hyperlink" Target="http://baike.baidu.com/view/1318453.htm" TargetMode="External"/><Relationship Id="rId4" Type="http://schemas.openxmlformats.org/officeDocument/2006/relationships/hyperlink" Target="http://baike.baidu.com/view/461511.htm" TargetMode="External"/><Relationship Id="rId5" Type="http://schemas.openxmlformats.org/officeDocument/2006/relationships/hyperlink" Target="http://baike.baidu.com/view/84207.htm" TargetMode="External"/><Relationship Id="rId6" Type="http://schemas.openxmlformats.org/officeDocument/2006/relationships/hyperlink" Target="http://baike.baidu.com/view/60147.htm" TargetMode="External"/><Relationship Id="rId7" Type="http://schemas.openxmlformats.org/officeDocument/2006/relationships/hyperlink" Target="http://baike.baidu.com/view/904882.htm" TargetMode="External"/><Relationship Id="rId8" Type="http://schemas.openxmlformats.org/officeDocument/2006/relationships/hyperlink" Target="http://baike.baidu.com/view/65782.htm" TargetMode="External"/><Relationship Id="rId9" Type="http://schemas.openxmlformats.org/officeDocument/2006/relationships/hyperlink" Target="http://baike.baidu.com/view/1625940.htm" TargetMode="External"/><Relationship Id="rId10" Type="http://schemas.openxmlformats.org/officeDocument/2006/relationships/hyperlink" Target="http://baike.baidu.com/view/31694.htm" TargetMode="External"/><Relationship Id="rId11" Type="http://schemas.openxmlformats.org/officeDocument/2006/relationships/hyperlink" Target="http://baike.baidu.com/view/545008.htm" TargetMode="External"/><Relationship Id="rId12" Type="http://schemas.openxmlformats.org/officeDocument/2006/relationships/hyperlink" Target="http://baike.baidu.com/view/455695.htm" TargetMode="External"/><Relationship Id="rId13" Type="http://schemas.openxmlformats.org/officeDocument/2006/relationships/hyperlink" Target="http://baike.baidu.com/view/744061.htm" TargetMode="External"/><Relationship Id="rId14" Type="http://schemas.openxmlformats.org/officeDocument/2006/relationships/hyperlink" Target="http://baike.baidu.com/view/61891.htm" TargetMode="External"/><Relationship Id="rId15" Type="http://schemas.openxmlformats.org/officeDocument/2006/relationships/hyperlink" Target="http://baike.baidu.com/view/1554.htm" TargetMode="External"/><Relationship Id="rId16" Type="http://schemas.openxmlformats.org/officeDocument/2006/relationships/hyperlink" Target="http://baike.baidu.com/view/78391.htm" TargetMode="External"/><Relationship Id="rId17" Type="http://schemas.openxmlformats.org/officeDocument/2006/relationships/hyperlink" Target="http://baike.baidu.com/view/22062.htm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917.htm" TargetMode="External"/><Relationship Id="rId2" Type="http://schemas.openxmlformats.org/officeDocument/2006/relationships/hyperlink" Target="http://baike.baidu.com/view/1657.htm" TargetMode="External"/><Relationship Id="rId3" Type="http://schemas.openxmlformats.org/officeDocument/2006/relationships/hyperlink" Target="http://baike.baidu.com/view/1554.htm" TargetMode="External"/><Relationship Id="rId4" Type="http://schemas.openxmlformats.org/officeDocument/2006/relationships/hyperlink" Target="http://baike.baidu.com/view/73632.htm" TargetMode="External"/><Relationship Id="rId5" Type="http://schemas.openxmlformats.org/officeDocument/2006/relationships/hyperlink" Target="http://baike.baidu.com/view/36702.ht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57318.htm" TargetMode="External"/><Relationship Id="rId2" Type="http://schemas.openxmlformats.org/officeDocument/2006/relationships/hyperlink" Target="http://baike.baidu.com/picture/3575/5060816/0/b94f65ec5f1d56932e2e2119.html?fr=lemma&amp;ct=single" TargetMode="External"/><Relationship Id="rId3" Type="http://schemas.openxmlformats.org/officeDocument/2006/relationships/hyperlink" Target="http://baike.baidu.com/view/118328.htm" TargetMode="External"/><Relationship Id="rId4" Type="http://schemas.openxmlformats.org/officeDocument/2006/relationships/hyperlink" Target="http://baike.baidu.com/view/46315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14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6147"/>
          <p:cNvSpPr txBox="1"/>
          <p:nvPr/>
        </p:nvSpPr>
        <p:spPr>
          <a:xfrm>
            <a:off x="1371600" y="1143000"/>
            <a:ext cx="6705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专题五  弘扬宪法精神  推进依法治国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文本框 6149"/>
          <p:cNvSpPr/>
          <p:nvPr/>
        </p:nvSpPr>
        <p:spPr>
          <a:xfrm>
            <a:off x="1828800" y="432756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图片 81923" descr="33"/>
          <p:cNvPicPr/>
          <p:nvPr/>
        </p:nvPicPr>
        <p:blipFill>
          <a:blip r:embed="rId1"/>
          <a:stretch/>
        </p:blipFill>
        <p:spPr>
          <a:xfrm>
            <a:off x="762120" y="1600200"/>
            <a:ext cx="7988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图片 72707" descr="33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图片 79875" descr="11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图片 83971" descr="55"/>
          <p:cNvPicPr/>
          <p:nvPr/>
        </p:nvPicPr>
        <p:blipFill>
          <a:blip r:embed="rId1"/>
          <a:stretch/>
        </p:blipFill>
        <p:spPr>
          <a:xfrm>
            <a:off x="838080" y="6094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图片 80899" descr="22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日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图片 82947" descr="44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新疆恐怖组织的恐怖活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图片 73731" descr="1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图片 75779" descr="3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图片 76803" descr="4"/>
          <p:cNvPicPr/>
          <p:nvPr/>
        </p:nvPicPr>
        <p:blipFill>
          <a:blip r:embed="rId1"/>
          <a:stretch/>
        </p:blipFill>
        <p:spPr>
          <a:xfrm>
            <a:off x="-1752480" y="162000"/>
            <a:ext cx="11125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图片 77827" descr="5"/>
          <p:cNvPicPr/>
          <p:nvPr/>
        </p:nvPicPr>
        <p:blipFill>
          <a:blip r:embed="rId1"/>
          <a:stretch/>
        </p:blipFill>
        <p:spPr>
          <a:xfrm>
            <a:off x="-1066680" y="0"/>
            <a:ext cx="1150596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9221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222"/>
          <p:cNvSpPr/>
          <p:nvPr/>
        </p:nvSpPr>
        <p:spPr>
          <a:xfrm>
            <a:off x="3161160" y="14479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黑体"/>
              </a:rPr>
              <a:t>宪法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组合 9223"/>
          <p:cNvGrpSpPr/>
          <p:nvPr/>
        </p:nvGrpSpPr>
        <p:grpSpPr>
          <a:xfrm>
            <a:off x="152280" y="152280"/>
            <a:ext cx="9144000" cy="6856560"/>
            <a:chOff x="152280" y="152280"/>
            <a:chExt cx="9144000" cy="6856560"/>
          </a:xfrm>
        </p:grpSpPr>
        <p:pic>
          <p:nvPicPr>
            <p:cNvPr id="94" name="图片 9224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组合 9225"/>
            <p:cNvGrpSpPr/>
            <p:nvPr/>
          </p:nvGrpSpPr>
          <p:grpSpPr>
            <a:xfrm>
              <a:off x="152280" y="152280"/>
              <a:ext cx="9144000" cy="1371600"/>
              <a:chOff x="152280" y="152280"/>
              <a:chExt cx="9144000" cy="1371600"/>
            </a:xfrm>
          </p:grpSpPr>
          <p:pic>
            <p:nvPicPr>
              <p:cNvPr id="96" name="图片 9226" descr="未标题-1"/>
              <p:cNvPicPr/>
              <p:nvPr/>
            </p:nvPicPr>
            <p:blipFill>
              <a:blip r:embed="rId3">
                <a:lum contrast="6000"/>
              </a:blip>
              <a:stretch/>
            </p:blipFill>
            <p:spPr>
              <a:xfrm>
                <a:off x="152280" y="152280"/>
                <a:ext cx="9144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圆角矩形 9227"/>
              <p:cNvSpPr/>
              <p:nvPr/>
            </p:nvSpPr>
            <p:spPr>
              <a:xfrm>
                <a:off x="1523880" y="195120"/>
                <a:ext cx="41911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7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矩形 9228"/>
            <p:cNvSpPr txBox="1"/>
            <p:nvPr/>
          </p:nvSpPr>
          <p:spPr>
            <a:xfrm>
              <a:off x="1828800" y="38088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99" name="矩形 9229"/>
          <p:cNvSpPr txBox="1"/>
          <p:nvPr/>
        </p:nvSpPr>
        <p:spPr>
          <a:xfrm rot="555600">
            <a:off x="1476360" y="1773360"/>
            <a:ext cx="648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走进宪法 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图片 78851" descr="7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图片 84995" descr="66"/>
          <p:cNvPicPr/>
          <p:nvPr/>
        </p:nvPicPr>
        <p:blipFill>
          <a:blip r:embed="rId1"/>
          <a:stretch/>
        </p:blipFill>
        <p:spPr>
          <a:xfrm>
            <a:off x="-1676520" y="30240"/>
            <a:ext cx="115063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图片 87043" descr="u=93402979,4113654017&amp;fm=11&amp;gp=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8" name="矩形 87044"/>
          <p:cNvSpPr txBox="1"/>
          <p:nvPr/>
        </p:nvSpPr>
        <p:spPr>
          <a:xfrm>
            <a:off x="2209680" y="838080"/>
            <a:ext cx="4800600" cy="2711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ccff"/>
                </a:solidFill>
                <a:latin typeface="宋体"/>
              </a:rPr>
              <a:t>香港占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图片 74755" descr="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图片 88067" descr="u=657119817,4135544662&amp;fm=11&amp;gp=0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6705720"/>
          </a:xfrm>
          <a:prstGeom prst="rect">
            <a:avLst/>
          </a:prstGeom>
          <a:ln w="0">
            <a:noFill/>
          </a:ln>
        </p:spPr>
      </p:pic>
      <p:sp>
        <p:nvSpPr>
          <p:cNvPr id="165" name="矩形 88068"/>
          <p:cNvSpPr txBox="1"/>
          <p:nvPr/>
        </p:nvSpPr>
        <p:spPr>
          <a:xfrm>
            <a:off x="1600200" y="380880"/>
            <a:ext cx="6019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香港占中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图片 89091" descr="u=1051264563,3974761919&amp;fm=11&amp;gp=0"/>
          <p:cNvPicPr/>
          <p:nvPr/>
        </p:nvPicPr>
        <p:blipFill>
          <a:blip r:embed="rId1"/>
          <a:stretch/>
        </p:blipFill>
        <p:spPr>
          <a:xfrm>
            <a:off x="-228600" y="141120"/>
            <a:ext cx="9753480" cy="668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图片 90115" descr="u=3545153184,3624535383&amp;fm=11&amp;gp=0"/>
          <p:cNvPicPr/>
          <p:nvPr/>
        </p:nvPicPr>
        <p:blipFill>
          <a:blip r:embed="rId1"/>
          <a:stretch/>
        </p:blipFill>
        <p:spPr>
          <a:xfrm>
            <a:off x="-304920" y="0"/>
            <a:ext cx="10287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图片 91139" descr="u=3791196608,2519215080&amp;fm=11&amp;gp=0"/>
          <p:cNvPicPr/>
          <p:nvPr/>
        </p:nvPicPr>
        <p:blipFill>
          <a:blip r:embed="rId1"/>
          <a:stretch/>
        </p:blipFill>
        <p:spPr>
          <a:xfrm>
            <a:off x="-609480" y="47520"/>
            <a:ext cx="103629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图片 92163" descr="u=4187395535,1102490825&amp;fm=11&amp;gp=0"/>
          <p:cNvPicPr/>
          <p:nvPr/>
        </p:nvPicPr>
        <p:blipFill>
          <a:blip r:embed="rId1"/>
          <a:stretch/>
        </p:blipFill>
        <p:spPr>
          <a:xfrm>
            <a:off x="-533520" y="0"/>
            <a:ext cx="10515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图片 93187" descr="u=4197801348,1572345525&amp;fm=11&amp;gp=0"/>
          <p:cNvPicPr/>
          <p:nvPr/>
        </p:nvPicPr>
        <p:blipFill>
          <a:blip r:embed="rId1"/>
          <a:stretch/>
        </p:blipFill>
        <p:spPr>
          <a:xfrm>
            <a:off x="-457200" y="76320"/>
            <a:ext cx="1013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宪法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是一个国家的根本大法，是特定社会政治经济和思想文化条件综合作用的产物，集中反映各种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政治力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实际对比关系，确认革命胜利成果和现实的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民主政治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规定国家的根本任务和根本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制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即社会制度、国家制度的原则和国家政权的组织以及公民的基本权利义务等内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宪法具有最高法律效力，为近、现代实行宪政制度的国家所公认，许多国家的宪法对此都有明文规定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中华人民共和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序言中明确规定：“本宪法以法律的形式确认了中国各族人民奋斗的成果，规定了国家的根本制度和根本任务，是国家的根本法，具有最高的法律效力。”第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条还规定：“一切法律、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行政法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和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地方性法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都不得同宪法相抵触。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4] 194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定：“本宪法是国家的最高法规，违反其规定的法律、命令、诏敕以及关于国务的其他行为的全部或者一部分均属无效。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概念的产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”一词，来源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拉丁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本是组织、确立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罗马帝国用它来表示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帝王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诏令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谕旨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”，以区别于市民会议通过的法律文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欧洲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封建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”时代用它表示在日常立法中对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国家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基本原则的确认，含有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组织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英国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中世纪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建立了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代议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当然这种情况在中国先秦时期是没有的），确立了国王没有得到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议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代议机关）同意就不得征税和进行其他立法的原则。后来代议制度普及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欧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各国，人们就把规定代议制度的法律称为宪法，指确认立宪政体的法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宪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宪令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”、“宪法”等词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中国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典籍中与“法”同义，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日本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“宪”也指法令、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都与现代“宪法”一词含义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世纪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代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明治维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，随着西方立宪政治概念的传入，日本才有相当于欧美的概念出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早期宪法形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中国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戊戌变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以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康有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首的维新派要求清廷制定宪法，实行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式的君主立宪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中国清政府颁布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本帝国宪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蓝本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钦定宪法大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从此“宪法”一词在中国就成为国家根本法的专用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世界上最早的宪法是英国的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不成文宪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宪法的作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权力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巩固和维护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国家权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规范国家权力有效运行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法制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统一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完善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体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确立和维护国家政治制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改革国家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政治体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社经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保护自己的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经济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促进经济的发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弘扬宪法精神的目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弘扬宪法精神，增强法制观念”的目的，就是要努力形成依法执政、依法行政、依法管理、依法办事，学法、守法、用法的良好社会环境；要努力引导领导干部和公职人员依法正确行使权力，做到权为民所用、情为民所系、利为民所谋；要努力引导全体公民行使好公民的权利，履行好公民的义务，依法维护好自身的合法权益；要努力引导企业经营管理人员守法诚信、依法经营，促进物质文明建设；要努力引导广大青少年学习基本的法律知识，遵纪守法，努力学习，逐步培养法律素质，做合格的公民。各级各部门一定要把认真学习宪法，熟悉宪法，遵守宪法，贯彻宪法，维护宪法作为“四五”普法的重中之重的工作来抓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2529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2533"/>
          <p:cNvSpPr/>
          <p:nvPr/>
        </p:nvSpPr>
        <p:spPr>
          <a:xfrm>
            <a:off x="304920" y="114300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文本框 22539"/>
          <p:cNvSpPr/>
          <p:nvPr/>
        </p:nvSpPr>
        <p:spPr>
          <a:xfrm>
            <a:off x="0" y="5410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矩形 22540"/>
          <p:cNvSpPr/>
          <p:nvPr/>
        </p:nvSpPr>
        <p:spPr>
          <a:xfrm>
            <a:off x="0" y="685800"/>
            <a:ext cx="83059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增强宪法观念，推进依法治国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学习宣传宪法，推进民主法制建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依法治国，执政为民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增强法制观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构建和谐社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       落实‘五五’普法规划，促进和谐社会建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推进依法治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服务科学发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加强法制宣传教育，服务经济社会发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促进社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1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深入学习宣传宪法，大力弘扬法治精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 弘扬宪法精神，服务科学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这十二年法制宣传日的主题，体现了课本哪些知识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矩形 22541"/>
          <p:cNvSpPr/>
          <p:nvPr/>
        </p:nvSpPr>
        <p:spPr>
          <a:xfrm>
            <a:off x="1406520" y="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国法制宣传日的主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图片 22542" descr="u=3470999619,3138258529&amp;fm=0&amp;gp=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014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2543" descr="55"/>
          <p:cNvPicPr/>
          <p:nvPr/>
        </p:nvPicPr>
        <p:blipFill>
          <a:blip r:embed="rId3"/>
          <a:stretch/>
        </p:blipFill>
        <p:spPr>
          <a:xfrm>
            <a:off x="3956040" y="2514600"/>
            <a:ext cx="123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4:03:18Z</dcterms:created>
  <dc:creator/>
  <dc:description/>
  <dc:language>en-US</dc:language>
  <cp:lastModifiedBy>Administrator</cp:lastModifiedBy>
  <dcterms:modified xsi:type="dcterms:W3CDTF">2016-12-15T04:03:28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