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094413" cy="8794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C946-9B3B-4DF8-A246-35DFE3C9C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0B43-4FFF-4269-A72F-5D5846084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27CF-79FE-44B0-85BF-6ABFF3002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4EEE-479C-4264-BABD-B7878C4A1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4FAE-A478-4758-B822-60EEE188D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E4D9-1C10-43E2-8B97-0E6D9D006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9926-BA74-4464-8DC2-FED5633C2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A930-6C1E-4BF9-8564-B6DD6CF48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6BD1-D673-40E9-ABE7-B4775FB6D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968E-B4D5-45D9-AF93-B966224B7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751B-E759-4C3B-80F9-242FEF8D7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83E3-4D21-41C6-AA0A-858AB6822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8487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BB0-4E9C-49DE-8A8C-629DF7F05C1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>
            <a:hlinkClick r:id="rId2" action="ppaction://hlinksldjump"/>
          </p:cNvPr>
          <p:cNvSpPr/>
          <p:nvPr/>
        </p:nvSpPr>
        <p:spPr>
          <a:xfrm>
            <a:off x="1327320" y="838080"/>
            <a:ext cx="2830320" cy="1219320"/>
          </a:xfrm>
          <a:prstGeom prst="rect">
            <a:avLst/>
          </a:prstGeom>
          <a:solidFill>
            <a:srgbClr val="3366ff"/>
          </a:solidFill>
          <a:ln w="76320">
            <a:solidFill>
              <a:srgbClr val="99cc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隶书"/>
                <a:ea typeface="隶书"/>
              </a:rPr>
              <a:t>平面点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隶书"/>
                <a:ea typeface="隶书"/>
              </a:rPr>
              <a:t>和区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>
            <a:hlinkClick r:id="rId3" action="ppaction://hlinksldjump"/>
          </p:cNvPr>
          <p:cNvSpPr/>
          <p:nvPr/>
        </p:nvSpPr>
        <p:spPr>
          <a:xfrm>
            <a:off x="5091120" y="2209680"/>
            <a:ext cx="2971800" cy="1219320"/>
          </a:xfrm>
          <a:prstGeom prst="rect">
            <a:avLst/>
          </a:prstGeom>
          <a:solidFill>
            <a:srgbClr val="ff6600"/>
          </a:solidFill>
          <a:ln w="76320">
            <a:solidFill>
              <a:srgbClr val="ffcc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多元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的极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105520" y="3824280"/>
            <a:ext cx="2971800" cy="1066680"/>
          </a:xfrm>
          <a:prstGeom prst="rect">
            <a:avLst/>
          </a:prstGeom>
          <a:solidFill>
            <a:srgbClr val="006600"/>
          </a:solidFill>
          <a:ln w="76320">
            <a:solidFill>
              <a:srgbClr val="00cc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多元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连续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55760" y="2438280"/>
            <a:ext cx="2830320" cy="914400"/>
          </a:xfrm>
          <a:prstGeom prst="rect">
            <a:avLst/>
          </a:prstGeom>
          <a:solidFill>
            <a:srgbClr val="800000"/>
          </a:solidFill>
          <a:ln w="76320">
            <a:solidFill>
              <a:srgbClr val="ff99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极 限 运 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3809880"/>
            <a:ext cx="2830680" cy="1067040"/>
          </a:xfrm>
          <a:prstGeom prst="rect">
            <a:avLst/>
          </a:prstGeom>
          <a:solidFill>
            <a:srgbClr val="ff00ff"/>
          </a:solidFill>
          <a:ln w="76320">
            <a:solidFill>
              <a:srgbClr val="ff99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多元连续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的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33960" y="1371600"/>
            <a:ext cx="752400" cy="257040"/>
          </a:xfrm>
          <a:prstGeom prst="rightArrow">
            <a:avLst>
              <a:gd name="adj1" fmla="val 50000"/>
              <a:gd name="adj2" fmla="val 73179"/>
            </a:avLst>
          </a:prstGeom>
          <a:gradFill rotWithShape="0">
            <a:gsLst>
              <a:gs pos="0">
                <a:srgbClr val="3333cc"/>
              </a:gs>
              <a:gs pos="100000">
                <a:srgbClr val="66ff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91160" y="3505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gradFill rotWithShape="0">
            <a:gsLst>
              <a:gs pos="0">
                <a:srgbClr val="ffcc66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2670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gradFill rotWithShape="0">
            <a:gsLst>
              <a:gs pos="0">
                <a:srgbClr val="006600"/>
              </a:gs>
              <a:gs pos="100000">
                <a:srgbClr val="cc0066"/>
              </a:gs>
            </a:gsLst>
            <a:lin ang="10800000"/>
          </a:gra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14800" y="952560"/>
            <a:ext cx="3048120" cy="914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00cc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多元函数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4880" y="274320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gradFill rotWithShape="0">
            <a:gsLst>
              <a:gs pos="0">
                <a:srgbClr val="ffcc66"/>
              </a:gs>
              <a:gs pos="100000">
                <a:srgbClr val="660033"/>
              </a:gs>
            </a:gsLst>
            <a:lin ang="108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46280" y="3386160"/>
            <a:ext cx="316080" cy="380880"/>
          </a:xfrm>
          <a:prstGeom prst="downArrow">
            <a:avLst>
              <a:gd name="adj1" fmla="val 50000"/>
              <a:gd name="adj2" fmla="val 30125"/>
            </a:avLst>
          </a:prstGeom>
          <a:gradFill rotWithShape="0">
            <a:gsLst>
              <a:gs pos="0">
                <a:srgbClr val="660033"/>
              </a:gs>
              <a:gs pos="100000">
                <a:srgbClr val="cc0066"/>
              </a:gs>
            </a:gsLst>
            <a:lin ang="5400000"/>
          </a:gra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1905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gradFill rotWithShape="0">
            <a:gsLst>
              <a:gs pos="0">
                <a:srgbClr val="3333cc"/>
              </a:gs>
              <a:gs pos="100000">
                <a:srgbClr val="ffcc66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2610-7CE1-41B1-9853-32248E8B5E33}" type="slidenum">
              <a:t>1</a:t>
            </a:fld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356600" y="2330280"/>
            <a:ext cx="685800" cy="838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08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2362320"/>
            <a:ext cx="685800" cy="8380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08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304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总习题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 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021040" y="816120"/>
                <a:ext cx="2286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设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361040" y="762120"/>
                <a:ext cx="19634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400800" y="853920"/>
                <a:ext cx="1143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182600" y="1452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      和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004840" y="1241280"/>
                <a:ext cx="54936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897280" y="1295280"/>
                <a:ext cx="495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2482200"/>
            <a:ext cx="17179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题思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770200" y="2286000"/>
                <a:ext cx="30621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6680" y="3962520"/>
                <a:ext cx="441972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u</m:t>
                                  </m:r>
                                </m:sup>
                              </m:sSup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u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v</m:t>
                              </m:r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u</m:t>
                                  </m:r>
                                </m:sup>
                              </m:sSup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v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u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v</m:t>
                              </m:r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066680" y="3352680"/>
                <a:ext cx="48736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分别将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v和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908680" y="2286000"/>
                <a:ext cx="20718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791320" y="3989520"/>
                <a:ext cx="190476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出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791320" y="5028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代入上式即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899320" y="3405240"/>
                <a:ext cx="2479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两边对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求导得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254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2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59FA-4E27-413A-8288-F71666E0BF91}" type="slidenum">
              <a:t>10</a:t>
            </a:fld>
          </a:p>
        </p:txBody>
      </p:sp>
    </p:spTree>
  </p:cSld>
  <p:transition>
    <p:wipe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905120" y="457200"/>
                <a:ext cx="2209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曲面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762120" y="17953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05480" y="1924200"/>
                <a:ext cx="2023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38080" y="3006720"/>
                <a:ext cx="44960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37000" y="3027240"/>
                <a:ext cx="31212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873000" y="4114800"/>
                <a:ext cx="2403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257640" y="4114800"/>
                <a:ext cx="1466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843120" y="5415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316160" y="5181480"/>
                <a:ext cx="584676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295280" y="1809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曲面上的任意点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53080" y="1828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在此点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362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法向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609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的任意一点处的切平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38080" y="53352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练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12333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过原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6320" y="0"/>
            <a:ext cx="4419360" cy="453960"/>
            <a:chOff x="76320" y="0"/>
            <a:chExt cx="4419360" cy="453960"/>
          </a:xfrm>
        </p:grpSpPr>
        <p:sp>
          <p:nvSpPr>
            <p:cNvPr id="274" name=""/>
            <p:cNvSpPr/>
            <p:nvPr/>
          </p:nvSpPr>
          <p:spPr>
            <a:xfrm>
              <a:off x="457200" y="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76320" y="63360"/>
              <a:ext cx="4343400" cy="390600"/>
              <a:chOff x="76320" y="63360"/>
              <a:chExt cx="4343400" cy="390600"/>
            </a:xfrm>
          </p:grpSpPr>
          <p:pic>
            <p:nvPicPr>
              <p:cNvPr id="2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6336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228600" y="33660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2782080" y="2438280"/>
            <a:ext cx="2278800" cy="567000"/>
            <a:chOff x="2782080" y="2438280"/>
            <a:chExt cx="2278800" cy="567000"/>
          </a:xfrm>
        </p:grpSpPr>
        <p:sp>
          <p:nvSpPr>
            <p:cNvPr id="279" name=""/>
            <p:cNvSpPr/>
            <p:nvPr/>
          </p:nvSpPr>
          <p:spPr>
            <a:xfrm>
              <a:off x="4857480" y="271584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02560" y="271584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4560" y="2715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55320" y="2563200"/>
              <a:ext cx="144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97400" y="2563200"/>
              <a:ext cx="144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82080" y="25632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50200" y="25632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4520" y="25632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75000" y="256320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21400" y="256320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52680" y="25632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44560" y="253368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56400" y="253368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45080" y="2438280"/>
              <a:ext cx="191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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A239-C434-41AD-8B90-736671D94B19}" type="slidenum">
              <a:t>11</a:t>
            </a:fld>
          </a:p>
        </p:txBody>
      </p:sp>
    </p:spTree>
  </p:cSld>
  <p:transition>
    <p:wipe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14400" y="1447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2362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平面方程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914400" y="2895480"/>
                <a:ext cx="7543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137120"/>
                <a:ext cx="2154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66680" y="5038560"/>
                <a:ext cx="533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600200" y="4648320"/>
                <a:ext cx="63244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990720" y="5715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620720" y="1219320"/>
                <a:ext cx="58467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955800" y="365040"/>
                <a:ext cx="22446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曲面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8120" y="5176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的任意一点处的切平面都过原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772400" cy="838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553080" y="5092560"/>
                <a:ext cx="203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902120" y="5029200"/>
                <a:ext cx="203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7162920" y="5092560"/>
                <a:ext cx="203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308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3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4C15-B1FA-4EC3-B1F7-D7E31F1571CA}" type="slidenum">
              <a:t>12</a:t>
            </a:fld>
          </a:p>
        </p:txBody>
      </p:sp>
    </p:spTree>
  </p:cSld>
  <p:transition>
    <p:wipe dir="l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87320" y="2133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52640" y="1219320"/>
                <a:ext cx="7100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的向径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方向导数</m:t>
                    </m:r>
                    <m:r>
                      <m:t xml:space="preserve">,</m:t>
                    </m:r>
                    <m:r>
                      <m:t xml:space="preserve">问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具有什么关系时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62120" y="533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473120" y="2209680"/>
                <a:ext cx="257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447920" y="2590920"/>
                <a:ext cx="198432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447920" y="3657600"/>
                <a:ext cx="41274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在点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处的方向导数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523880" y="4054320"/>
                <a:ext cx="60199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189320" y="2152800"/>
                <a:ext cx="2897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410080" y="2660760"/>
                <a:ext cx="17924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505320" y="2625840"/>
                <a:ext cx="1981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838080" y="5076720"/>
                <a:ext cx="48261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390680" y="304920"/>
                <a:ext cx="6762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求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在点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处沿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914400" y="16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方向导数等于梯度的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664240" y="5029200"/>
                <a:ext cx="29336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76320" y="0"/>
            <a:ext cx="4419360" cy="453960"/>
            <a:chOff x="76320" y="0"/>
            <a:chExt cx="4419360" cy="453960"/>
          </a:xfrm>
        </p:grpSpPr>
        <p:sp>
          <p:nvSpPr>
            <p:cNvPr id="327" name=""/>
            <p:cNvSpPr/>
            <p:nvPr/>
          </p:nvSpPr>
          <p:spPr>
            <a:xfrm>
              <a:off x="457200" y="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6320" y="63360"/>
              <a:ext cx="4343400" cy="390600"/>
              <a:chOff x="76320" y="63360"/>
              <a:chExt cx="4343400" cy="390600"/>
            </a:xfrm>
          </p:grpSpPr>
          <p:pic>
            <p:nvPicPr>
              <p:cNvPr id="3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6336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>
                <a:off x="228600" y="33660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9805-885E-48EA-9C0D-4E72725BF7DE}" type="slidenum">
              <a:t>13</a:t>
            </a:fld>
          </a:p>
        </p:txBody>
      </p:sp>
    </p:spTree>
  </p:cSld>
  <p:transition>
    <p:wipe dir="l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133720" y="1981080"/>
                <a:ext cx="26413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819680" y="2070000"/>
                <a:ext cx="2438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90720" y="3048120"/>
                <a:ext cx="3403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在点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处的梯度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28880" y="3441600"/>
                <a:ext cx="504180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</m:t>
                    </m:r>
                    <m:r>
                      <m:t xml:space="preserve">u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413080" y="4495680"/>
                <a:ext cx="33019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76320" y="1143000"/>
                <a:ext cx="7101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的向径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方向导数</m:t>
                    </m:r>
                    <m:r>
                      <m:t xml:space="preserve">,</m:t>
                    </m:r>
                    <m:r>
                      <m:t xml:space="preserve">问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具有什么关系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314360" y="320760"/>
                <a:ext cx="6762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求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在点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处沿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838080" y="15238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方向导数等于梯度的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304920"/>
            <a:ext cx="7391520" cy="1676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020600" y="1996920"/>
                <a:ext cx="1036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085760" y="5397480"/>
                <a:ext cx="38991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ad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42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343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3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B9B0-73EC-4FDD-9EF0-54EC291F2BA1}" type="slidenum">
              <a:t>14</a:t>
            </a:fld>
          </a:p>
        </p:txBody>
      </p:sp>
    </p:spTree>
  </p:cSld>
  <p:transition>
    <p:wipe dir="l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90720" y="1550880"/>
                <a:ext cx="250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540160" y="3429000"/>
                <a:ext cx="241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914400" y="1828800"/>
                <a:ext cx="7086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990720" y="4241880"/>
                <a:ext cx="26924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ad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938160" y="5257800"/>
                <a:ext cx="69105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故当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相等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此方向导数等于梯度的模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689120" y="395280"/>
                <a:ext cx="27306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41520" y="396720"/>
                <a:ext cx="10364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724280" y="380880"/>
                <a:ext cx="38991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ad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914400" y="3581280"/>
                <a:ext cx="15746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ad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867280" y="1409760"/>
                <a:ext cx="2757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358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3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98BA-20DA-4C2D-93CC-3679618A9B4E}" type="slidenum">
              <a:t>15</a:t>
            </a:fld>
          </a:p>
        </p:txBody>
      </p:sp>
    </p:spTree>
  </p:cSld>
  <p:transition>
    <p:wipe dir="l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181480" y="1828800"/>
            <a:ext cx="1295640" cy="914400"/>
          </a:xfrm>
          <a:prstGeom prst="parallelogram">
            <a:avLst>
              <a:gd name="adj" fmla="val 35423"/>
            </a:avLst>
          </a:prstGeom>
          <a:gradFill rotWithShape="0">
            <a:gsLst>
              <a:gs pos="0">
                <a:srgbClr val="66ff33"/>
              </a:gs>
              <a:gs pos="100000">
                <a:srgbClr val="ff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523880" y="241200"/>
                <a:ext cx="55389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函数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由方程组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91440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3733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法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3733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方程组各方程两边微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43000" y="4495680"/>
            <a:ext cx="76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332000" y="4419720"/>
                <a:ext cx="247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295280" y="4897440"/>
                <a:ext cx="33530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d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308240" y="5464080"/>
                <a:ext cx="24256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105520" y="5562720"/>
                <a:ext cx="18540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068800" y="4630680"/>
                <a:ext cx="34275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dz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960480" y="2681280"/>
            <a:ext cx="9446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5120" y="27288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809880" y="3214800"/>
                <a:ext cx="457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523880" y="1828800"/>
                <a:ext cx="3862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确定</m:t>
                    </m:r>
                    <m:r>
                      <m:t xml:space="preserve">,</m:t>
                    </m:r>
                    <m:r>
                      <m:t xml:space="preserve">且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321160" y="1828800"/>
                <a:ext cx="992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求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u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4648320" y="27288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独立自变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86600" y="2666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题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3214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独立自变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648320" y="4979880"/>
                <a:ext cx="39348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4648320" y="5911920"/>
                <a:ext cx="3934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385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3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5D5D-B896-4247-9C69-798113208FC9}" type="slidenum">
              <a:t>16</a:t>
            </a:fld>
          </a:p>
        </p:txBody>
      </p:sp>
    </p:spTree>
  </p:cSld>
  <p:transition>
    <p:wipe dir="l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75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1895400" y="914400"/>
                <a:ext cx="828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u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066680" y="4038480"/>
                <a:ext cx="1092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759120" y="4038480"/>
                <a:ext cx="1625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代入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得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066680" y="5149800"/>
                <a:ext cx="1498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代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838080" y="471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法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781680" y="39600"/>
                <a:ext cx="226224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1752480" y="4716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方程组各方程两边对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求导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3880" y="1066680"/>
                <a:ext cx="38124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905120" y="2082960"/>
                <a:ext cx="380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81080" y="3124080"/>
                <a:ext cx="355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120760" y="3809880"/>
                <a:ext cx="16513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dz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359320" y="3746520"/>
                <a:ext cx="25653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629080" y="4848120"/>
                <a:ext cx="4533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u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666880" y="1219320"/>
                <a:ext cx="381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143160" y="990720"/>
                <a:ext cx="1130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753160" y="1212840"/>
                <a:ext cx="419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279520" y="1905120"/>
                <a:ext cx="1282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575160" y="1905120"/>
                <a:ext cx="124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z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838760" y="2165400"/>
                <a:ext cx="4953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715000" y="212724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292480" y="2895480"/>
                <a:ext cx="1218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z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543480" y="3187800"/>
                <a:ext cx="495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715000" y="311148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76320" y="-73080"/>
            <a:ext cx="4419360" cy="453960"/>
            <a:chOff x="76320" y="-73080"/>
            <a:chExt cx="4419360" cy="453960"/>
          </a:xfrm>
        </p:grpSpPr>
        <p:sp>
          <p:nvSpPr>
            <p:cNvPr id="413" name=""/>
            <p:cNvSpPr/>
            <p:nvPr/>
          </p:nvSpPr>
          <p:spPr>
            <a:xfrm>
              <a:off x="457200" y="-7308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320" y="-9720"/>
              <a:ext cx="4343400" cy="390600"/>
              <a:chOff x="76320" y="-9720"/>
              <a:chExt cx="4343400" cy="390600"/>
            </a:xfrm>
          </p:grpSpPr>
          <p:pic>
            <p:nvPicPr>
              <p:cNvPr id="4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972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228600" y="26352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DB37-98AF-46CB-AAED-6B16DF2628BE}" type="slidenum">
              <a:t>17</a:t>
            </a:fld>
          </a:p>
        </p:txBody>
      </p:sp>
    </p:spTree>
  </p:cSld>
  <p:transition>
    <p:wipe dir="l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43000" y="304920"/>
            <a:ext cx="7772400" cy="2209680"/>
          </a:xfrm>
          <a:prstGeom prst="parallelogram">
            <a:avLst>
              <a:gd name="adj" fmla="val -77895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080" y="25909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法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913040" y="2666880"/>
                <a:ext cx="2582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98920" y="2666880"/>
                <a:ext cx="2816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890720" y="3200400"/>
                <a:ext cx="7826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u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914400" y="4495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905120" y="4419720"/>
            <a:ext cx="1752480" cy="1106280"/>
            <a:chOff x="1905120" y="4419720"/>
            <a:chExt cx="1752480" cy="1106280"/>
          </a:xfrm>
        </p:grpSpPr>
        <p:sp>
          <p:nvSpPr>
            <p:cNvPr id="424" name=""/>
            <p:cNvSpPr/>
            <p:nvPr/>
          </p:nvSpPr>
          <p:spPr>
            <a:xfrm>
              <a:off x="1905120" y="4611600"/>
              <a:ext cx="1752480" cy="838440"/>
            </a:xfrm>
            <a:prstGeom prst="wedgeRoundRectCallout">
              <a:avLst>
                <a:gd name="adj1" fmla="val 62500"/>
                <a:gd name="adj2" fmla="val -118939"/>
                <a:gd name="adj3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99"/>
                </a:gs>
                <a:gs pos="100000">
                  <a:srgbClr val="ccccff"/>
                </a:gs>
              </a:gsLst>
              <a:lin ang="5400000"/>
            </a:gra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1981440" y="4419720"/>
                  <a:ext cx="1600200" cy="110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6" name=""/>
          <p:cNvGrpSpPr/>
          <p:nvPr/>
        </p:nvGrpSpPr>
        <p:grpSpPr>
          <a:xfrm>
            <a:off x="3733920" y="4419720"/>
            <a:ext cx="1600200" cy="1076040"/>
            <a:chOff x="3733920" y="4419720"/>
            <a:chExt cx="1600200" cy="1076040"/>
          </a:xfrm>
        </p:grpSpPr>
        <p:sp>
          <p:nvSpPr>
            <p:cNvPr id="427" name=""/>
            <p:cNvSpPr/>
            <p:nvPr/>
          </p:nvSpPr>
          <p:spPr>
            <a:xfrm>
              <a:off x="3733920" y="4486320"/>
              <a:ext cx="1600200" cy="1009080"/>
            </a:xfrm>
            <a:prstGeom prst="wedgeRoundRectCallout">
              <a:avLst>
                <a:gd name="adj1" fmla="val 29958"/>
                <a:gd name="adj2" fmla="val -109435"/>
                <a:gd name="adj3" fmla="val 16667"/>
              </a:avLst>
            </a:prstGeom>
            <a:gradFill rotWithShape="0">
              <a:gsLst>
                <a:gs pos="0">
                  <a:srgbClr val="66ffcc"/>
                </a:gs>
                <a:gs pos="50000">
                  <a:srgbClr val="ffffff"/>
                </a:gs>
                <a:gs pos="100000">
                  <a:srgbClr val="66ffcc"/>
                </a:gs>
              </a:gsLst>
              <a:lin ang="5400000"/>
            </a:gra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3733920" y="4419720"/>
                  <a:ext cx="1524240" cy="10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9" name=""/>
          <p:cNvGrpSpPr/>
          <p:nvPr/>
        </p:nvGrpSpPr>
        <p:grpSpPr>
          <a:xfrm>
            <a:off x="5486400" y="4556160"/>
            <a:ext cx="1523880" cy="930240"/>
            <a:chOff x="5486400" y="4556160"/>
            <a:chExt cx="1523880" cy="930240"/>
          </a:xfrm>
        </p:grpSpPr>
        <p:sp>
          <p:nvSpPr>
            <p:cNvPr id="430" name=""/>
            <p:cNvSpPr/>
            <p:nvPr/>
          </p:nvSpPr>
          <p:spPr>
            <a:xfrm>
              <a:off x="5486400" y="4556160"/>
              <a:ext cx="1523880" cy="930240"/>
            </a:xfrm>
            <a:prstGeom prst="wedgeRoundRectCallout">
              <a:avLst>
                <a:gd name="adj1" fmla="val -34375"/>
                <a:gd name="adj2" fmla="val -103240"/>
                <a:gd name="adj3" fmla="val 16667"/>
              </a:avLst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5638680" y="4578480"/>
                  <a:ext cx="1295640" cy="83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z</m:t>
                          </m:r>
                        </m:num>
                        <m:den>
                          <m:r>
                            <m:t xml:space="preserve">d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2" name=""/>
          <p:cNvGrpSpPr/>
          <p:nvPr/>
        </p:nvGrpSpPr>
        <p:grpSpPr>
          <a:xfrm>
            <a:off x="7620120" y="2209680"/>
            <a:ext cx="1218960" cy="3810240"/>
            <a:chOff x="7620120" y="2209680"/>
            <a:chExt cx="1218960" cy="3810240"/>
          </a:xfrm>
        </p:grpSpPr>
        <p:sp>
          <p:nvSpPr>
            <p:cNvPr id="433" name=""/>
            <p:cNvSpPr/>
            <p:nvPr/>
          </p:nvSpPr>
          <p:spPr>
            <a:xfrm>
              <a:off x="7620120" y="2209680"/>
              <a:ext cx="1218960" cy="3810240"/>
            </a:xfrm>
            <a:prstGeom prst="leftArrowCallout">
              <a:avLst>
                <a:gd name="adj1" fmla="val 78152"/>
                <a:gd name="adj2" fmla="val 78145"/>
                <a:gd name="adj3" fmla="val 16667"/>
                <a:gd name="adj4" fmla="val 66673"/>
              </a:avLst>
            </a:prstGeom>
            <a:gradFill rotWithShape="0">
              <a:gsLst>
                <a:gs pos="0">
                  <a:srgbClr val="ff8200"/>
                </a:gs>
                <a:gs pos="50000">
                  <a:srgbClr val="000082"/>
                </a:gs>
                <a:gs pos="100000">
                  <a:srgbClr val="ff8200"/>
                </a:gs>
              </a:gsLst>
              <a:lin ang="1080000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 rot="10894200">
              <a:off x="8176680" y="2358000"/>
              <a:ext cx="60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99"/>
                  </a:solidFill>
                  <a:latin typeface="Times New Roman"/>
                </a:rPr>
                <a:t>由隐函数求导公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124080" y="3419640"/>
                <a:ext cx="762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495680" y="3352680"/>
                <a:ext cx="762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37" name=""/>
          <p:cNvGrpSpPr/>
          <p:nvPr/>
        </p:nvGrpSpPr>
        <p:grpSpPr>
          <a:xfrm>
            <a:off x="7604280" y="2666880"/>
            <a:ext cx="1264680" cy="2743200"/>
            <a:chOff x="7604280" y="2666880"/>
            <a:chExt cx="1264680" cy="2743200"/>
          </a:xfrm>
        </p:grpSpPr>
        <p:sp>
          <p:nvSpPr>
            <p:cNvPr id="438" name=""/>
            <p:cNvSpPr/>
            <p:nvPr/>
          </p:nvSpPr>
          <p:spPr>
            <a:xfrm>
              <a:off x="7604280" y="2666880"/>
              <a:ext cx="1218960" cy="2743200"/>
            </a:xfrm>
            <a:prstGeom prst="leftArrowCallout">
              <a:avLst>
                <a:gd name="adj1" fmla="val 56266"/>
                <a:gd name="adj2" fmla="val 56261"/>
                <a:gd name="adj3" fmla="val 16667"/>
                <a:gd name="adj4" fmla="val 55732"/>
              </a:avLst>
            </a:prstGeom>
            <a:gradFill rotWithShape="0">
              <a:gsLst>
                <a:gs pos="0">
                  <a:srgbClr val="ff8200"/>
                </a:gs>
                <a:gs pos="50000">
                  <a:srgbClr val="000082"/>
                </a:gs>
                <a:gs pos="100000">
                  <a:srgbClr val="ff8200"/>
                </a:gs>
              </a:gsLst>
              <a:lin ang="1080000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10894200">
              <a:off x="8241120" y="2738880"/>
              <a:ext cx="609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99"/>
                  </a:solidFill>
                  <a:latin typeface="Times New Roman"/>
                </a:rPr>
                <a:t>由 链导法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590920" y="241200"/>
                <a:ext cx="55386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函数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由方程组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676520" y="1676520"/>
                <a:ext cx="3862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确定</m:t>
                    </m:r>
                    <m:r>
                      <m:t xml:space="preserve">,</m:t>
                    </m:r>
                    <m:r>
                      <m:t xml:space="preserve">且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97560" y="1676520"/>
                <a:ext cx="992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求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u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695680" y="3429000"/>
                <a:ext cx="428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886200" y="3352680"/>
                <a:ext cx="609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265720" y="3200400"/>
                <a:ext cx="760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z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6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447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4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251B-D3FC-44EC-8EEB-D68E153E0958}" type="slidenum">
              <a:t>18</a:t>
            </a:fld>
          </a:p>
        </p:txBody>
      </p:sp>
    </p:spTree>
  </p:cSld>
  <p:transition>
    <p:wipe dir="l"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838080" y="880920"/>
          <a:ext cx="8317080" cy="5430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880920"/>
                    <a:ext cx="8317080" cy="54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2362320" y="228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  验  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C77C-E12C-40C0-9A6C-90CA8E22D074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05480" y="942840"/>
            <a:ext cx="190512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99cc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全微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57960" y="2209680"/>
            <a:ext cx="19684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99cc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高阶偏导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4040" y="3524400"/>
            <a:ext cx="1968480" cy="914400"/>
          </a:xfrm>
          <a:prstGeom prst="rect">
            <a:avLst/>
          </a:prstGeom>
          <a:solidFill>
            <a:srgbClr val="cc0099"/>
          </a:solidFill>
          <a:ln w="76320">
            <a:solidFill>
              <a:srgbClr val="ff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隐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求导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6240" y="2209680"/>
            <a:ext cx="1968480" cy="914400"/>
          </a:xfrm>
          <a:prstGeom prst="rect">
            <a:avLst/>
          </a:prstGeom>
          <a:solidFill>
            <a:srgbClr val="cc0099"/>
          </a:solidFill>
          <a:ln w="76320">
            <a:solidFill>
              <a:srgbClr val="ff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复合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求导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33640" y="3524400"/>
            <a:ext cx="1968480" cy="914400"/>
          </a:xfrm>
          <a:prstGeom prst="rect">
            <a:avLst/>
          </a:prstGeom>
          <a:solidFill>
            <a:srgbClr val="339966"/>
          </a:solidFill>
          <a:ln w="76320">
            <a:solidFill>
              <a:srgbClr val="99cc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全微分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的不变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3080" y="4724280"/>
            <a:ext cx="2728800" cy="838440"/>
          </a:xfrm>
          <a:prstGeom prst="rect">
            <a:avLst/>
          </a:prstGeom>
          <a:solidFill>
            <a:srgbClr val="ff6600"/>
          </a:solidFill>
          <a:ln w="76320">
            <a:solidFill>
              <a:srgbClr val="ffcc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微分法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几何上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33640" y="942840"/>
            <a:ext cx="1968480" cy="914400"/>
          </a:xfrm>
          <a:prstGeom prst="rect">
            <a:avLst/>
          </a:prstGeom>
          <a:solidFill>
            <a:srgbClr val="006600"/>
          </a:solidFill>
          <a:ln w="76320">
            <a:solidFill>
              <a:srgbClr val="33cc33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方向导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33640" y="4724280"/>
            <a:ext cx="4267080" cy="838440"/>
          </a:xfrm>
          <a:prstGeom prst="rect">
            <a:avLst/>
          </a:prstGeom>
          <a:solidFill>
            <a:srgbClr val="006666"/>
          </a:solidFill>
          <a:ln w="76320">
            <a:solidFill>
              <a:srgbClr val="33cc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多元函数的极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14720" y="2757600"/>
            <a:ext cx="685800" cy="290520"/>
          </a:xfrm>
          <a:prstGeom prst="leftArrow">
            <a:avLst>
              <a:gd name="adj1" fmla="val 50000"/>
              <a:gd name="adj2" fmla="val 59015"/>
            </a:avLst>
          </a:prstGeom>
          <a:gradFill rotWithShape="0">
            <a:gsLst>
              <a:gs pos="0">
                <a:srgbClr val="3333cc"/>
              </a:gs>
              <a:gs pos="100000">
                <a:srgbClr val="d60093"/>
              </a:gs>
            </a:gsLst>
            <a:lin ang="10800000"/>
          </a:gradFill>
          <a:ln w="38160">
            <a:solidFill>
              <a:srgbClr val="ff99cc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05640" y="2757600"/>
            <a:ext cx="609480" cy="290520"/>
          </a:xfrm>
          <a:prstGeom prst="rightArrow">
            <a:avLst>
              <a:gd name="adj1" fmla="val 50000"/>
              <a:gd name="adj2" fmla="val 52447"/>
            </a:avLst>
          </a:prstGeom>
          <a:solidFill>
            <a:srgbClr val="3333cc"/>
          </a:solidFill>
          <a:ln w="38160">
            <a:solidFill>
              <a:srgbClr val="00cc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4720" y="12193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3333cc"/>
              </a:gs>
              <a:gs pos="100000">
                <a:srgbClr val="006600"/>
              </a:gs>
            </a:gsLst>
            <a:lin ang="10800000"/>
          </a:gradFill>
          <a:ln w="38160">
            <a:solidFill>
              <a:srgbClr val="00cc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9800" y="32004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60093"/>
              </a:gs>
              <a:gs pos="100000">
                <a:srgbClr val="33cc33"/>
              </a:gs>
            </a:gsLst>
            <a:lin ang="5400000"/>
          </a:gradFill>
          <a:ln w="38160">
            <a:solidFill>
              <a:srgbClr val="ff99cc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29520" y="448164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00ff"/>
              </a:gs>
              <a:gs pos="100000">
                <a:srgbClr val="ff9933"/>
              </a:gs>
            </a:gsLst>
            <a:lin ang="5400000"/>
          </a:gradFill>
          <a:ln w="38160">
            <a:solidFill>
              <a:srgbClr val="ff99cc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4200">
            <a:off x="4607640" y="2095200"/>
            <a:ext cx="257400" cy="533520"/>
          </a:xfrm>
          <a:prstGeom prst="upArrow">
            <a:avLst>
              <a:gd name="adj1" fmla="val 50000"/>
              <a:gd name="adj2" fmla="val 51818"/>
            </a:avLst>
          </a:prstGeom>
          <a:solidFill>
            <a:srgbClr val="0000ff"/>
          </a:solidFill>
          <a:ln w="38160">
            <a:solidFill>
              <a:srgbClr val="00cc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728000">
            <a:off x="2809440" y="2197080"/>
            <a:ext cx="1752840" cy="228600"/>
          </a:xfrm>
          <a:prstGeom prst="leftArrow">
            <a:avLst>
              <a:gd name="adj1" fmla="val 50000"/>
              <a:gd name="adj2" fmla="val 191693"/>
            </a:avLst>
          </a:prstGeom>
          <a:gradFill rotWithShape="0">
            <a:gsLst>
              <a:gs pos="0">
                <a:srgbClr val="3333cc"/>
              </a:gs>
              <a:gs pos="100000">
                <a:srgbClr val="006600"/>
              </a:gs>
            </a:gsLst>
            <a:lin ang="10800000"/>
          </a:gradFill>
          <a:ln w="38160">
            <a:solidFill>
              <a:srgbClr val="00cc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19440" y="685800"/>
            <a:ext cx="2286000" cy="15238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98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cc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全微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5760" y="2666880"/>
            <a:ext cx="205884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5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cc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偏导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0160" y="44197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3333cc"/>
              </a:gs>
              <a:gs pos="100000">
                <a:srgbClr val="008080"/>
              </a:gs>
            </a:gsLst>
            <a:lin ang="5400000"/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34240" y="12952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66ffff"/>
              </a:gs>
              <a:gs pos="100000">
                <a:srgbClr val="0000ff"/>
              </a:gs>
            </a:gsLst>
            <a:lin ang="10800000"/>
          </a:gradFill>
          <a:ln w="38160">
            <a:solidFill>
              <a:srgbClr val="00cc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38840" y="3819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d60093"/>
              </a:gs>
              <a:gs pos="100000">
                <a:srgbClr val="3333cc"/>
              </a:gs>
            </a:gsLst>
            <a:lin ang="10800000"/>
          </a:gradFill>
          <a:ln w="38160">
            <a:solidFill>
              <a:srgbClr val="ff99cc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8FA1-2A8F-4437-801B-FD87F55A378E}" type="slidenum">
              <a:t>2</a:t>
            </a:fld>
          </a:p>
        </p:txBody>
      </p:sp>
    </p:spTree>
  </p:cSld>
  <p:transition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909720" y="611280"/>
          <a:ext cx="7791480" cy="5330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9720" y="611280"/>
                    <a:ext cx="779148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7444-7642-4E0C-A483-EF7A769BC046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682560" y="138240"/>
          <a:ext cx="8074080" cy="6567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138240"/>
                    <a:ext cx="807408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2065-34D6-4187-90A3-CB2B7CEEF705}" type="slidenum">
              <a:t>21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909720" y="384120"/>
          <a:ext cx="7548480" cy="602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9720" y="384120"/>
                    <a:ext cx="754848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7FD0-E35E-4A4F-B5A4-2517C79CBA82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838080" y="539640"/>
          <a:ext cx="7891560" cy="5246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539640"/>
                    <a:ext cx="789156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C9B8-6C95-4B99-BA23-9167E0BB5EA5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1251000" y="384120"/>
          <a:ext cx="7576920" cy="466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1000" y="384120"/>
                    <a:ext cx="75769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1251000" y="4734000"/>
          <a:ext cx="7080120" cy="1450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1000" y="4734000"/>
                    <a:ext cx="708012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B399-AFD0-4838-8B1D-451BFCF38240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539640" y="200160"/>
          <a:ext cx="8069400" cy="416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00160"/>
                    <a:ext cx="8069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39640" y="4519440"/>
          <a:ext cx="7182000" cy="1717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4519440"/>
                    <a:ext cx="718200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D89A-9A5A-430D-A210-7AA3B082CC05}" type="slidenum">
              <a:t>25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909720" y="654120"/>
          <a:ext cx="7180200" cy="5772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9720" y="654120"/>
                    <a:ext cx="71802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3505320" y="76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测验题答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CEF3-E44A-4C84-B504-E8B44F0E1413}" type="slidenum">
              <a:t>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1258920" y="189000"/>
            <a:ext cx="7154640" cy="4949640"/>
            <a:chOff x="1258920" y="189000"/>
            <a:chExt cx="7154640" cy="4949640"/>
          </a:xfrm>
        </p:grpSpPr>
        <p:graphicFrame>
          <p:nvGraphicFramePr>
            <p:cNvPr id="474" name=""/>
            <p:cNvGraphicFramePr/>
            <p:nvPr/>
          </p:nvGraphicFramePr>
          <p:xfrm>
            <a:off x="1258920" y="189000"/>
            <a:ext cx="7154640" cy="43909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4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58920" y="189000"/>
                      <a:ext cx="7154640" cy="43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2398680" y="4363920"/>
                  <a:ext cx="35712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3973320" y="4376880"/>
                  <a:ext cx="51912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5599080" y="4351320"/>
                  <a:ext cx="403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9" name=""/>
                <p:cNvSpPr txBox="1"/>
                <p:nvPr/>
              </p:nvSpPr>
              <p:spPr>
                <a:xfrm>
                  <a:off x="6451560" y="4351320"/>
                  <a:ext cx="51912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1368360" y="4565520"/>
                  <a:ext cx="54658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ϕ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ϕ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ϕ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及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81" name=""/>
          <p:cNvGraphicFramePr/>
          <p:nvPr/>
        </p:nvGraphicFramePr>
        <p:xfrm>
          <a:off x="1403280" y="5308560"/>
          <a:ext cx="7182000" cy="150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5308560"/>
                    <a:ext cx="71820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114C-1BE6-48FF-8C2C-3B373E839230}" type="slidenum">
              <a:t>27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371600" y="914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181224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总习题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60680" y="1812240"/>
            <a:ext cx="16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7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页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271224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   4.    9.   10.   12.   14.   1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19320" y="339804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.   1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76320" y="-73080"/>
            <a:ext cx="4419360" cy="453960"/>
            <a:chOff x="76320" y="-73080"/>
            <a:chExt cx="4419360" cy="453960"/>
          </a:xfrm>
        </p:grpSpPr>
        <p:sp>
          <p:nvSpPr>
            <p:cNvPr id="489" name=""/>
            <p:cNvSpPr/>
            <p:nvPr/>
          </p:nvSpPr>
          <p:spPr>
            <a:xfrm>
              <a:off x="457200" y="-7308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6320" y="-9720"/>
              <a:ext cx="4343400" cy="390600"/>
              <a:chOff x="76320" y="-9720"/>
              <a:chExt cx="4343400" cy="390600"/>
            </a:xfrm>
          </p:grpSpPr>
          <p:pic>
            <p:nvPicPr>
              <p:cNvPr id="4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972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228600" y="26352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2ADE-596D-47A3-9506-F2E7D56CC2B4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1268280"/>
            <a:ext cx="7543800" cy="487692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808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教学要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1295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理解多元函数的概念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43480" y="3573360"/>
            <a:ext cx="4016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存在偏导与可微的关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62240" y="4811760"/>
            <a:ext cx="6019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掌握复合函数与隐函数偏导数的求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1890720"/>
            <a:ext cx="53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了解二元函数极限与连续概念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249228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掌握有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49228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闭区域上二元连续函数的性质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9973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全微分存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3054240"/>
            <a:ext cx="39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必要条件与充分条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357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元函数极限、连续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25304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熟练掌握偏导数的定义与求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811760"/>
            <a:ext cx="15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特别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5373720"/>
            <a:ext cx="1517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会求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5373720"/>
            <a:ext cx="2330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的全微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320" y="-31680"/>
            <a:ext cx="4419360" cy="453960"/>
            <a:chOff x="76320" y="-31680"/>
            <a:chExt cx="4419360" cy="453960"/>
          </a:xfrm>
        </p:grpSpPr>
        <p:sp>
          <p:nvSpPr>
            <p:cNvPr id="87" name=""/>
            <p:cNvSpPr/>
            <p:nvPr/>
          </p:nvSpPr>
          <p:spPr>
            <a:xfrm>
              <a:off x="457200" y="-3168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6320" y="31680"/>
              <a:ext cx="4343400" cy="390600"/>
              <a:chOff x="76320" y="31680"/>
              <a:chExt cx="4343400" cy="390600"/>
            </a:xfrm>
          </p:grpSpPr>
          <p:pic>
            <p:nvPicPr>
              <p:cNvPr id="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168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228600" y="30492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007C-2D19-4CD7-BF8B-E43D273D9E64}" type="slidenum">
              <a:t>3</a:t>
            </a:fld>
          </a:p>
        </p:txBody>
      </p:sp>
    </p:spTree>
  </p:cSld>
  <p:transition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914400"/>
            <a:ext cx="7829280" cy="467532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4422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了解方向导数与梯度的概念及其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2200" y="3110040"/>
            <a:ext cx="5562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会用拉格朗日乘数法求多元函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125360"/>
            <a:ext cx="6933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熟练掌握空间曲线的切线与法平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5680" y="1832040"/>
            <a:ext cx="5562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曲面的切平面与法线方程的求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63080" y="11541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程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03200" y="2533680"/>
            <a:ext cx="70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熟练掌握二元函数的极值理论及其求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3757680"/>
            <a:ext cx="3809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极值以及有关应用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97520" y="44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算方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101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7CFC-1A73-4998-9F5B-551607F02992}" type="slidenum">
              <a:t>4</a:t>
            </a:fld>
          </a:p>
        </p:txBody>
      </p:sp>
    </p:spTree>
  </p:cSld>
  <p:transition>
    <p:wipe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906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1160" y="18446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92200" y="785880"/>
                <a:ext cx="2987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设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59080" y="1906560"/>
                <a:ext cx="7585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99000" y="1779480"/>
                <a:ext cx="22780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76360" y="2808360"/>
                <a:ext cx="730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79640" y="3570120"/>
                <a:ext cx="3763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06840" y="2838600"/>
                <a:ext cx="685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762120" y="188280"/>
            <a:ext cx="33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典型例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00720" y="988920"/>
                <a:ext cx="232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270160" y="1828800"/>
                <a:ext cx="4255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689200" y="1882800"/>
                <a:ext cx="731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459240" y="1654200"/>
                <a:ext cx="1114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86000" y="2763720"/>
                <a:ext cx="35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38440" y="2895480"/>
                <a:ext cx="730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449520" y="2637000"/>
                <a:ext cx="1062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173560" y="2892600"/>
                <a:ext cx="878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116760" y="2666880"/>
                <a:ext cx="12031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124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1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76360" y="4422600"/>
                <a:ext cx="8589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54080" y="5321160"/>
                <a:ext cx="1371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459160" y="4218120"/>
                <a:ext cx="25160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42920" y="6072120"/>
                <a:ext cx="4944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y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y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683320" y="5243400"/>
                <a:ext cx="7617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5680" y="5321160"/>
                <a:ext cx="685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35640" y="5316480"/>
                <a:ext cx="1056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198520" y="5348160"/>
                <a:ext cx="8352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y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070080" y="5110200"/>
                <a:ext cx="14320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424560" y="5319720"/>
                <a:ext cx="882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y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412040" y="5064120"/>
                <a:ext cx="14810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009D-31B6-41F8-BA89-942D34C4CC43}" type="slidenum">
              <a:t>5</a:t>
            </a:fld>
          </a:p>
        </p:txBody>
      </p:sp>
    </p:spTree>
  </p:cSld>
  <p:transition>
    <p:wipe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55640" y="480960"/>
                <a:ext cx="6720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求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与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之最短距离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62120" y="4572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7560" y="1322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3880" y="4500720"/>
            <a:ext cx="9903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106720" y="4606920"/>
                <a:ext cx="2260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求点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265480" y="132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拉格朗日乘数法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51080" y="1322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法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452600" y="2770200"/>
                <a:ext cx="5335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到平面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距离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862360" y="3430440"/>
                <a:ext cx="3213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56160" y="4678200"/>
                <a:ext cx="749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满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965240" y="5254560"/>
                <a:ext cx="5183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使得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最小．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45280" y="4581360"/>
                <a:ext cx="22348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152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1359000" y="1973160"/>
            <a:ext cx="20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抛物面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05160" y="1930320"/>
                <a:ext cx="3498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点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BBBD-48F2-4A3A-AFA0-8F648F540AB6}" type="slidenum">
              <a:t>6</a:t>
            </a:fld>
          </a:p>
        </p:txBody>
      </p:sp>
    </p:spTree>
  </p:cSld>
  <p:transition>
    <p:wipe dir="l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85800" y="430200"/>
                <a:ext cx="7380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令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403280" y="1362240"/>
                <a:ext cx="4810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λ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413000" y="2230560"/>
                <a:ext cx="4802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λ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403280" y="3068640"/>
                <a:ext cx="53294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465200" y="4119480"/>
                <a:ext cx="1738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971640" y="1755720"/>
                <a:ext cx="441360" cy="27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0" y="0"/>
            <a:ext cx="4419360" cy="453960"/>
            <a:chOff x="0" y="0"/>
            <a:chExt cx="4419360" cy="453960"/>
          </a:xfrm>
        </p:grpSpPr>
        <p:sp>
          <p:nvSpPr>
            <p:cNvPr id="165" name=""/>
            <p:cNvSpPr/>
            <p:nvPr/>
          </p:nvSpPr>
          <p:spPr>
            <a:xfrm>
              <a:off x="380880" y="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0" y="63360"/>
              <a:ext cx="4343400" cy="390600"/>
              <a:chOff x="0" y="63360"/>
              <a:chExt cx="4343400" cy="390600"/>
            </a:xfrm>
          </p:grpSpPr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6336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152280" y="33660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03280" y="5229360"/>
                <a:ext cx="457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589720" y="4103640"/>
                <a:ext cx="1358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995640" y="4248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唯一驻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7C6C-2EB5-4C89-BD12-B3BA049AEFB0}" type="slidenum">
              <a:t>7</a:t>
            </a:fld>
          </a:p>
        </p:txBody>
      </p:sp>
    </p:spTree>
  </p:cSld>
  <p:transition>
    <p:wipe dir="l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法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2030400"/>
            <a:ext cx="20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抛物面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089160" y="1987560"/>
                <a:ext cx="3465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点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258920" y="2708280"/>
                <a:ext cx="3340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55640" y="3483000"/>
                <a:ext cx="1600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438280" y="3476520"/>
                <a:ext cx="1587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202280" y="3508200"/>
                <a:ext cx="9460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71600" y="4257720"/>
                <a:ext cx="2602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218200" y="5351400"/>
                <a:ext cx="1082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752480" y="1309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几何法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452520"/>
            <a:ext cx="7402680" cy="815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038480" y="4224240"/>
            <a:ext cx="3124440" cy="828720"/>
            <a:chOff x="4038480" y="4224240"/>
            <a:chExt cx="3124440" cy="82872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454720" y="4224240"/>
                  <a:ext cx="9237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454800" y="4275000"/>
                  <a:ext cx="7081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5920" y="4257360"/>
                  <a:ext cx="903240" cy="79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4038480" y="4595760"/>
                  <a:ext cx="39384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484280" y="5273640"/>
                <a:ext cx="3759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9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190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1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187280" y="549360"/>
                <a:ext cx="6720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求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与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之最短距离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5423040" y="3284640"/>
            <a:ext cx="2966400" cy="621360"/>
            <a:chOff x="5423040" y="3284640"/>
            <a:chExt cx="2966400" cy="6213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5423040" y="3600360"/>
                  <a:ext cx="39348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7" name=""/>
            <p:cNvGrpSpPr/>
            <p:nvPr/>
          </p:nvGrpSpPr>
          <p:grpSpPr>
            <a:xfrm>
              <a:off x="5960520" y="3284640"/>
              <a:ext cx="2428920" cy="621360"/>
              <a:chOff x="5960520" y="3284640"/>
              <a:chExt cx="2428920" cy="621360"/>
            </a:xfrm>
          </p:grpSpPr>
          <p:sp>
            <p:nvSpPr>
              <p:cNvPr id="198" name=""/>
              <p:cNvSpPr/>
              <p:nvPr/>
            </p:nvSpPr>
            <p:spPr>
              <a:xfrm>
                <a:off x="8265240" y="34639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088120" y="346392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013240" y="3463920"/>
                <a:ext cx="936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00680" y="346392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97200" y="3463920"/>
                <a:ext cx="936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79960" y="346392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36520" y="346392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32880" y="3463920"/>
                <a:ext cx="1638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94160" y="346392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960520" y="3463920"/>
                <a:ext cx="2066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467480" y="3421080"/>
                <a:ext cx="1227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746760" y="3421080"/>
                <a:ext cx="1227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237720" y="342108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23520" y="3284640"/>
                <a:ext cx="1911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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0195-B283-4AE5-9B24-75D09F99808A}" type="slidenum">
              <a:t>8</a:t>
            </a:fld>
          </a:p>
        </p:txBody>
      </p:sp>
    </p:spTree>
  </p:cSld>
  <p:transition>
    <p:wipe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386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法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33360"/>
            <a:ext cx="7402680" cy="816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908000" y="2073240"/>
                <a:ext cx="1473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348000" y="20606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平面上任一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693880"/>
            <a:ext cx="22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点间距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41760" y="2682720"/>
                <a:ext cx="5359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684360" y="328464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令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293840" y="3409920"/>
                <a:ext cx="1714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071880" y="3321000"/>
                <a:ext cx="4597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684520" y="3930480"/>
                <a:ext cx="2463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230800" y="3994200"/>
                <a:ext cx="33019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136520" y="4653000"/>
                <a:ext cx="3264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73240" y="5373720"/>
                <a:ext cx="354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324240" y="6021360"/>
                <a:ext cx="2351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16000" y="5950080"/>
                <a:ext cx="1919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26920" y="4684680"/>
                <a:ext cx="5191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28" name=""/>
          <p:cNvGrpSpPr/>
          <p:nvPr/>
        </p:nvGrpSpPr>
        <p:grpSpPr>
          <a:xfrm>
            <a:off x="76320" y="-76320"/>
            <a:ext cx="4419360" cy="454320"/>
            <a:chOff x="76320" y="-76320"/>
            <a:chExt cx="4419360" cy="454320"/>
          </a:xfrm>
        </p:grpSpPr>
        <p:sp>
          <p:nvSpPr>
            <p:cNvPr id="229" name=""/>
            <p:cNvSpPr/>
            <p:nvPr/>
          </p:nvSpPr>
          <p:spPr>
            <a:xfrm>
              <a:off x="457200" y="-7632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第八章 多元函数微分法及其应用 习题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76320" y="-12600"/>
              <a:ext cx="4343400" cy="390600"/>
              <a:chOff x="76320" y="-12600"/>
              <a:chExt cx="4343400" cy="390600"/>
            </a:xfrm>
          </p:grpSpPr>
          <p:pic>
            <p:nvPicPr>
              <p:cNvPr id="23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-12600"/>
                <a:ext cx="39024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228600" y="26064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531720"/>
                <a:ext cx="6720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求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与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之最短距离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692360" y="1414440"/>
            <a:ext cx="20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抛物面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638520" y="1341360"/>
                <a:ext cx="3498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点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4ABA-3662-4BD2-ACAB-CA24450A8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3T06:06:41Z</dcterms:created>
  <dc:creator/>
  <dc:description/>
  <dc:language>en-US</dc:language>
  <cp:lastModifiedBy>leexia</cp:lastModifiedBy>
  <cp:lastPrinted>1999-09-15T08:06:35Z</cp:lastPrinted>
  <dcterms:modified xsi:type="dcterms:W3CDTF">2009-03-29T14:10:54Z</dcterms:modified>
  <cp:revision>570</cp:revision>
  <dc:subject/>
  <dc:title>没有幻灯片标题</dc:title>
</cp:coreProperties>
</file>