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3DD2B-CDE0-4A4F-80F1-78CB326E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C2359-E055-4F02-B06C-9AF53625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16829-3A42-4E29-AC20-67D5EC0D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C3A35-BAAB-46E3-8975-B12A4374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193C9-65F9-461D-983C-6786B357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5EED7-AEB2-45C0-8DF9-74C7B395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78721-C509-4F08-86E9-7E700B96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B6721-6669-4F50-BC57-579A16B78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421B3-D2E4-46FA-9623-A4CEA242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858F7-8B93-4BE4-A02A-5E88F1DC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88B39-83AD-4F6C-9239-A746837E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3EC7D-2E07-4760-AE45-EE32DAB1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FC5DA-1C5A-48C0-ABF0-F54EA6E7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0ADE7-7A6C-4EE8-AF9E-91D2BFC7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85FA4-BF6A-47B7-AD33-E577C8B3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9F4E0-54C8-4265-8987-6500A767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F9EDC-5066-4FDA-8598-0C58B4E8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A10FD-677B-4DBC-8586-ADCBB042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F5C5B-2127-4213-9681-2E7484A0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202CF-41FF-45CC-AC27-FBDA413A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5F058-8B11-44BC-84FA-B614AA17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010EF-8589-4659-9538-B2535E25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DA9E5-C632-4312-B8DF-D0BA5A61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C5CFF-C92F-43F8-A4E4-86A28FF6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49D5B-FC15-4BBE-8F62-7BE97C77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6B864-0A75-4093-B7F9-0EDB962F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87B6C-5B0D-4FFE-9227-5139C7FA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B11F9-E440-4836-ACDB-981FE528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A11F4-81D4-4C0B-A0D9-AA8125CB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FB3BA-62DE-41C2-BE91-8F488CB1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ACB5F-7938-4751-BD97-090C901E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ED271-AC80-4315-B32A-B636D01A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854D7-44BF-4872-B974-6E2C1E12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2F4B-B451-49F0-A3BC-ADF5FF40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2470-E541-4F31-A632-DB0045E6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9512-3AB7-40F9-913E-C5A7A7EC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C9BD-0DD3-48BE-AC1A-80E98F4E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8F7F-531D-487D-8F8B-A26ED190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9EE5-B4B3-4806-B4EB-B37AFA6A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F545-5241-484C-9B7C-71E9D7D3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2D6F-1579-4524-B8F9-84D7213B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4FF0-9EA3-41D2-A93D-E70BB6C8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01F8-2469-4F1D-B134-0545B804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BC0F-DEB1-4480-B583-6422DB70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6EB3-AC53-4CDF-8833-93CF323E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B44C-83C0-41A5-B8B0-F3CFA612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9FA4-08B6-470E-BE7E-E81352E3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386F-FB26-4A36-AAEA-F35A2430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323F-3849-466C-B5B9-8C668C33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1850-165D-43A9-9AC6-88CB25F2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F0D8-2CBA-4262-89D9-3505E1E9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06A7-856E-40D9-BC6F-22BDB7EB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0196-9612-467B-8A7D-BFB892F7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84D7-6A12-4D08-9A73-FA255565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19AD-CBA8-47A2-9FBD-1700D9FC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570D-14A6-4764-92AD-EF50BCFC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0B08-C6A3-41E5-8B68-29FCCB88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5EBA3-D83D-4AFF-8862-D254B07B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BC6E6-869D-4DBD-BED1-971F49FD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599B3-CD9C-4E0F-8279-98A4CF2D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259DE-0799-4B01-97CE-148F2ABA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5810E-9F68-453D-891F-85AE9F02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51533-59AB-44CC-9F3E-E11F57DC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3E250-01D5-4637-A5CA-56373B1E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AA025-E41E-428A-B274-283F438B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AFA16-854E-4DF6-8310-A14B3810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2C1A8-D7F7-4865-8849-05D82073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D45E6-070A-4622-B638-3E185153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AD855-0E3E-46B2-A094-0F2212C7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0B48E-0575-4871-97DF-DBFC4C1C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96847-4690-4FF4-A9F0-31887F15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C4DC7-AD82-4B78-979D-977F1920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8F99B-604F-462B-BD07-C59D111F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569B6-49A2-4064-AE33-2ADA52F0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D5838-8B36-4879-8130-7058EB22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5371E-DA19-4945-9CE7-75AA91A0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A8475-6FF7-42F7-8042-2463D888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3F0AC-FB64-4FB9-ACCA-0E285800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26510-0B32-4391-97DB-7906F2C0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B93E2-EE04-4533-A43D-122D51B0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0B3EA-7B7C-4D22-9857-32A30378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19665-C8EC-4C04-BD26-926EC8D8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68741-9ACB-46BB-A42A-F7DC48D8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7A99E-F046-4492-A012-34F04DF7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22B9C-11D6-44C8-A10C-3761F0CC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A06FA-12D2-46E5-BFD7-B1E08EAF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C6480-95F7-4563-B510-D7332199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24F3D-E984-48E3-90E7-CE1E2929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31314-E1A9-41FD-A2C7-2D5E87C5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B06C2-1C65-4EF4-A9D9-91161385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20963-5CB2-4D53-87D2-93C1264F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0A06A-8202-474E-AC1C-AAAD8866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83746-6F7A-4E38-9EEB-AD0DCDD3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22E74-4B6A-4B2A-9E1F-3530F26E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4CAAB-4434-4B7D-9D7F-F315A27E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EEDC0-CA4F-4553-ACAC-03089E65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99E8-2E80-487F-AFF4-74FFA527232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F5A8-785A-4531-925B-204DC121D02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8" name="矩形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4B11-2DAD-4299-9303-F9EF93A5133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B4DF-C08C-4518-8E72-718917FC19D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D1A6-8563-4F22-823F-36D952BA2F6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4176-6969-4887-BA1D-A44506758FE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FEEE-284D-40C7-87CD-CDCF2A20958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7C24-41FE-4B6D-B814-354BACB25DD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16" descr=""/>
          <p:cNvPicPr/>
          <p:nvPr/>
        </p:nvPicPr>
        <p:blipFill>
          <a:blip r:embed="rId1"/>
          <a:stretch/>
        </p:blipFill>
        <p:spPr>
          <a:xfrm>
            <a:off x="2455920" y="449280"/>
            <a:ext cx="4230720" cy="42418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5" descr=""/>
          <p:cNvPicPr/>
          <p:nvPr/>
        </p:nvPicPr>
        <p:blipFill>
          <a:blip r:embed="rId2"/>
          <a:stretch/>
        </p:blipFill>
        <p:spPr>
          <a:xfrm>
            <a:off x="3354480" y="1353960"/>
            <a:ext cx="2433600" cy="24339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" descr=""/>
          <p:cNvPicPr/>
          <p:nvPr/>
        </p:nvPicPr>
        <p:blipFill>
          <a:blip r:embed="rId3"/>
          <a:stretch/>
        </p:blipFill>
        <p:spPr>
          <a:xfrm>
            <a:off x="4014720" y="2013120"/>
            <a:ext cx="1114560" cy="1114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39" name="矩形 8"/>
          <p:cNvSpPr/>
          <p:nvPr/>
        </p:nvSpPr>
        <p:spPr>
          <a:xfrm>
            <a:off x="-22879080" y="-12868200"/>
            <a:ext cx="54903600" cy="30881520"/>
          </a:xfrm>
          <a:custGeom>
            <a:avLst/>
            <a:gdLst/>
            <a:ahLst/>
            <a:rect l="l" t="t" r="r" b="b"/>
            <a:pathLst>
              <a:path w="54904640" h="30883860">
                <a:moveTo>
                  <a:pt x="25714960" y="14464665"/>
                </a:moveTo>
                <a:lnTo>
                  <a:pt x="25714960" y="16419195"/>
                </a:lnTo>
                <a:lnTo>
                  <a:pt x="29189680" y="16419195"/>
                </a:lnTo>
                <a:lnTo>
                  <a:pt x="29189680" y="14464665"/>
                </a:lnTo>
                <a:lnTo>
                  <a:pt x="25714960" y="14464665"/>
                </a:lnTo>
                <a:close/>
                <a:moveTo>
                  <a:pt x="0" y="0"/>
                </a:moveTo>
                <a:lnTo>
                  <a:pt x="54904640" y="0"/>
                </a:lnTo>
                <a:lnTo>
                  <a:pt x="54904640" y="30883860"/>
                </a:lnTo>
                <a:lnTo>
                  <a:pt x="0" y="308838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0200.wav" descr=""/>
          <p:cNvPicPr/>
          <p:nvPr/>
        </p:nvPicPr>
        <p:blipFill>
          <a:blip r:embed="rId5"/>
          <a:stretch/>
        </p:blipFill>
        <p:spPr>
          <a:xfrm>
            <a:off x="11018880" y="-11140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41" name="矩形 2"/>
          <p:cNvSpPr/>
          <p:nvPr/>
        </p:nvSpPr>
        <p:spPr>
          <a:xfrm>
            <a:off x="-3600" y="0"/>
            <a:ext cx="75816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3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300" spc="-1" strike="noStrike">
                <a:solidFill>
                  <a:srgbClr val="ffffff"/>
                </a:solidFill>
                <a:latin typeface="Calibri"/>
              </a:rPr>
              <a:t>www.1ppt.com/moban/ 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145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 repeatCount="3000">
                                  <p:stCondLst>
                                    <p:cond delay="250"/>
                                  </p:stCondLst>
                                  <p:childTnLst>
                                    <p:animRot by="-21599939">
                                      <p:cBhvr>
                                        <p:cTn id="20" dur="185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8" repeatCount="2000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7" dur="265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3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33" dur="2700" fill="hold"/>
                                        <p:tgtEl>
                                          <p:spTgt spid="439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40" dur="1000" fill="hold"/>
                                        <p:tgtEl>
                                          <p:spTgt spid="439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2"/>
          <p:cNvGrpSpPr/>
          <p:nvPr/>
        </p:nvGrpSpPr>
        <p:grpSpPr>
          <a:xfrm>
            <a:off x="4625640" y="2878200"/>
            <a:ext cx="3287520" cy="860760"/>
            <a:chOff x="4625640" y="2878200"/>
            <a:chExt cx="3287520" cy="860760"/>
          </a:xfrm>
        </p:grpSpPr>
        <p:sp>
          <p:nvSpPr>
            <p:cNvPr id="443" name="TextBox 12"/>
            <p:cNvSpPr/>
            <p:nvPr/>
          </p:nvSpPr>
          <p:spPr>
            <a:xfrm>
              <a:off x="5531040" y="3262320"/>
              <a:ext cx="238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一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1ppt.com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TextBox 13"/>
            <p:cNvSpPr/>
            <p:nvPr/>
          </p:nvSpPr>
          <p:spPr>
            <a:xfrm>
              <a:off x="6299280" y="3523320"/>
              <a:ext cx="698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</a:t>
              </a: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，适用于妇女节祝褔、贺卡等相关类别的演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TextBox 1"/>
            <p:cNvSpPr/>
            <p:nvPr/>
          </p:nvSpPr>
          <p:spPr>
            <a:xfrm>
              <a:off x="4625640" y="2878200"/>
              <a:ext cx="1857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方正大标宋简体"/>
                  <a:ea typeface="方正大标宋简体"/>
                </a:rPr>
                <a:t>         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6" name="Picture 2" descr="E:\工作夹\PPT模版\s1040妇女节\原图片\4.png"/>
          <p:cNvPicPr/>
          <p:nvPr/>
        </p:nvPicPr>
        <p:blipFill>
          <a:blip r:embed="rId1"/>
          <a:stretch/>
        </p:blipFill>
        <p:spPr>
          <a:xfrm>
            <a:off x="6032520" y="3247920"/>
            <a:ext cx="3114720" cy="18957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E:\工作夹\PPT模版\s1040妇女节\原图片\5.png"/>
          <p:cNvPicPr/>
          <p:nvPr/>
        </p:nvPicPr>
        <p:blipFill>
          <a:blip r:embed="rId2"/>
          <a:stretch/>
        </p:blipFill>
        <p:spPr>
          <a:xfrm>
            <a:off x="4062240" y="573120"/>
            <a:ext cx="4486320" cy="1895400"/>
          </a:xfrm>
          <a:prstGeom prst="rect">
            <a:avLst/>
          </a:prstGeom>
          <a:ln w="0">
            <a:noFill/>
          </a:ln>
        </p:spPr>
      </p:pic>
      <p:sp>
        <p:nvSpPr>
          <p:cNvPr id="448" name="直接连接符 11"/>
          <p:cNvSpPr/>
          <p:nvPr/>
        </p:nvSpPr>
        <p:spPr>
          <a:xfrm>
            <a:off x="4140360" y="2678040"/>
            <a:ext cx="433044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Picture 3" descr="E:\工作夹\PPT模版\s1040妇女节\原图片\5.png"/>
          <p:cNvPicPr/>
          <p:nvPr/>
        </p:nvPicPr>
        <p:blipFill>
          <a:blip r:embed="rId3"/>
          <a:stretch/>
        </p:blipFill>
        <p:spPr>
          <a:xfrm>
            <a:off x="4062240" y="573120"/>
            <a:ext cx="4486320" cy="18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55" dur="500" fill="hold"/>
                                        <p:tgtEl>
                                          <p:spTgt spid="4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6" presetSubtype="3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6" presetSubtype="3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2189880" y="406440"/>
            <a:ext cx="6045120" cy="3763800"/>
            <a:chOff x="2189880" y="406440"/>
            <a:chExt cx="6045120" cy="3763800"/>
          </a:xfrm>
        </p:grpSpPr>
        <p:sp>
          <p:nvSpPr>
            <p:cNvPr id="451" name="任意多边形 16"/>
            <p:cNvSpPr/>
            <p:nvPr/>
          </p:nvSpPr>
          <p:spPr>
            <a:xfrm flipH="1" rot="214200">
              <a:off x="2526840" y="645480"/>
              <a:ext cx="5608800" cy="3353040"/>
            </a:xfrm>
            <a:custGeom>
              <a:avLst/>
              <a:gdLst/>
              <a:ahLst/>
              <a:rect l="l" t="t" r="r" b="b"/>
              <a:pathLst>
                <a:path w="5130112" h="3067205">
                  <a:moveTo>
                    <a:pt x="5130112" y="2190186"/>
                  </a:moveTo>
                  <a:lnTo>
                    <a:pt x="4572696" y="2312432"/>
                  </a:lnTo>
                  <a:cubicBezTo>
                    <a:pt x="4437230" y="2476120"/>
                    <a:pt x="3623949" y="2967880"/>
                    <a:pt x="2946816" y="3013338"/>
                  </a:cubicBezTo>
                  <a:cubicBezTo>
                    <a:pt x="2269683" y="3058796"/>
                    <a:pt x="1197654" y="3227008"/>
                    <a:pt x="509897" y="2585178"/>
                  </a:cubicBezTo>
                  <a:cubicBezTo>
                    <a:pt x="-177860" y="1943348"/>
                    <a:pt x="-112545" y="1167025"/>
                    <a:pt x="365365" y="564626"/>
                  </a:cubicBezTo>
                  <a:cubicBezTo>
                    <a:pt x="843275" y="-37773"/>
                    <a:pt x="1659280" y="-12377"/>
                    <a:pt x="2202650" y="7666"/>
                  </a:cubicBezTo>
                  <a:cubicBezTo>
                    <a:pt x="2746020" y="27709"/>
                    <a:pt x="3481079" y="237760"/>
                    <a:pt x="4015866" y="709211"/>
                  </a:cubicBezTo>
                  <a:cubicBezTo>
                    <a:pt x="4550653" y="1180662"/>
                    <a:pt x="4616102" y="1781114"/>
                    <a:pt x="4653732" y="2070862"/>
                  </a:cubicBezTo>
                  <a:lnTo>
                    <a:pt x="5130112" y="2190186"/>
                  </a:lnTo>
                  <a:close/>
                </a:path>
              </a:pathLst>
            </a:custGeom>
            <a:solidFill>
              <a:srgbClr val="d9d9d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任意多边形 15"/>
            <p:cNvSpPr/>
            <p:nvPr/>
          </p:nvSpPr>
          <p:spPr>
            <a:xfrm flipH="1" rot="214200">
              <a:off x="2288160" y="582480"/>
              <a:ext cx="5764320" cy="3354480"/>
            </a:xfrm>
            <a:custGeom>
              <a:avLst/>
              <a:gdLst/>
              <a:ahLst/>
              <a:rect l="l" t="t" r="r" b="b"/>
              <a:pathLst>
                <a:path w="5272396" h="3069961">
                  <a:moveTo>
                    <a:pt x="5272396" y="2177286"/>
                  </a:moveTo>
                  <a:lnTo>
                    <a:pt x="4487995" y="2274503"/>
                  </a:lnTo>
                  <a:cubicBezTo>
                    <a:pt x="4352529" y="2438191"/>
                    <a:pt x="3609832" y="2961559"/>
                    <a:pt x="2946816" y="3013338"/>
                  </a:cubicBezTo>
                  <a:cubicBezTo>
                    <a:pt x="2283800" y="3065117"/>
                    <a:pt x="1197654" y="3227008"/>
                    <a:pt x="509897" y="2585178"/>
                  </a:cubicBezTo>
                  <a:cubicBezTo>
                    <a:pt x="-177860" y="1943348"/>
                    <a:pt x="-112545" y="1167025"/>
                    <a:pt x="365365" y="564626"/>
                  </a:cubicBezTo>
                  <a:cubicBezTo>
                    <a:pt x="843275" y="-37773"/>
                    <a:pt x="1659280" y="-12377"/>
                    <a:pt x="2202650" y="7666"/>
                  </a:cubicBezTo>
                  <a:cubicBezTo>
                    <a:pt x="2746020" y="27709"/>
                    <a:pt x="3481079" y="237760"/>
                    <a:pt x="4015866" y="709211"/>
                  </a:cubicBezTo>
                  <a:cubicBezTo>
                    <a:pt x="4550653" y="1180662"/>
                    <a:pt x="4616102" y="1781114"/>
                    <a:pt x="4653732" y="2070862"/>
                  </a:cubicBezTo>
                  <a:lnTo>
                    <a:pt x="5272396" y="217728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324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3" name="矩形 2"/>
          <p:cNvSpPr/>
          <p:nvPr/>
        </p:nvSpPr>
        <p:spPr>
          <a:xfrm>
            <a:off x="3276720" y="1563840"/>
            <a:ext cx="45748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界因为有了女人，而显得分外美丽！问候只是短短的几行，却是一个浓浓的真意！祝三八节快乐，永远年轻漂亮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.1ppt.com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E:\公司作品\新logo应用\20110708新LOGO应用\锐普PPT红LOGO-02.png"/>
          <p:cNvPicPr/>
          <p:nvPr/>
        </p:nvPicPr>
        <p:blipFill>
          <a:blip r:embed="rId1"/>
          <a:stretch/>
        </p:blipFill>
        <p:spPr>
          <a:xfrm>
            <a:off x="482760" y="3413160"/>
            <a:ext cx="711000" cy="2761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" descr="E:\工作夹\PPT模版\s1040妇女节\原图片\3.png"/>
          <p:cNvPicPr/>
          <p:nvPr/>
        </p:nvPicPr>
        <p:blipFill>
          <a:blip r:embed="rId2"/>
          <a:stretch/>
        </p:blipFill>
        <p:spPr>
          <a:xfrm>
            <a:off x="4032360" y="1185840"/>
            <a:ext cx="4973400" cy="14684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" descr="E:\工作夹\PPT模版\s1040妇女节\原图片\2.png"/>
          <p:cNvPicPr/>
          <p:nvPr/>
        </p:nvPicPr>
        <p:blipFill>
          <a:blip r:embed="rId3"/>
          <a:stretch/>
        </p:blipFill>
        <p:spPr>
          <a:xfrm>
            <a:off x="5388120" y="2822400"/>
            <a:ext cx="2071440" cy="3715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E:\工作夹\PPT模版\s1040妇女节\原图片\4.png"/>
          <p:cNvPicPr/>
          <p:nvPr/>
        </p:nvPicPr>
        <p:blipFill>
          <a:blip r:embed="rId4"/>
          <a:stretch/>
        </p:blipFill>
        <p:spPr>
          <a:xfrm>
            <a:off x="6032520" y="3247920"/>
            <a:ext cx="3114720" cy="18957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E:\工作夹\PPT模版\s1040妇女节\原图片\3.png"/>
          <p:cNvPicPr/>
          <p:nvPr/>
        </p:nvPicPr>
        <p:blipFill>
          <a:blip r:embed="rId5"/>
          <a:stretch/>
        </p:blipFill>
        <p:spPr>
          <a:xfrm>
            <a:off x="4032360" y="1185840"/>
            <a:ext cx="4973400" cy="14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79" dur="500" fill="hold"/>
                                        <p:tgtEl>
                                          <p:spTgt spid="4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6" presetSubtype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矩形 4"/>
          <p:cNvSpPr/>
          <p:nvPr/>
        </p:nvSpPr>
        <p:spPr>
          <a:xfrm>
            <a:off x="1220760" y="3003480"/>
            <a:ext cx="795960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200" spc="-1" strike="noStrike" u="sng">
                <a:solidFill>
                  <a:srgbClr val="5f5f5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hangye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jieri/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beijing/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17"/>
          <p:cNvSpPr/>
          <p:nvPr/>
        </p:nvSpPr>
        <p:spPr>
          <a:xfrm>
            <a:off x="0" y="1714680"/>
            <a:ext cx="914400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图片 9" descr=""/>
          <p:cNvPicPr/>
          <p:nvPr/>
        </p:nvPicPr>
        <p:blipFill>
          <a:blip r:embed="rId2"/>
          <a:stretch/>
        </p:blipFill>
        <p:spPr>
          <a:xfrm>
            <a:off x="1878120" y="536400"/>
            <a:ext cx="5789520" cy="100980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3"/>
          <p:cNvSpPr/>
          <p:nvPr/>
        </p:nvSpPr>
        <p:spPr>
          <a:xfrm>
            <a:off x="468360" y="1789200"/>
            <a:ext cx="410364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修改模板中的内容包括，图片，数据，文本的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4572000" y="1789200"/>
            <a:ext cx="410364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打包上传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各种形式的付费下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Picture 10" descr="png-0644"/>
          <p:cNvPicPr/>
          <p:nvPr/>
        </p:nvPicPr>
        <p:blipFill>
          <a:blip r:embed="rId3"/>
          <a:stretch/>
        </p:blipFill>
        <p:spPr>
          <a:xfrm>
            <a:off x="3703680" y="1865160"/>
            <a:ext cx="393480" cy="2955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1" descr="png-0652"/>
          <p:cNvPicPr/>
          <p:nvPr/>
        </p:nvPicPr>
        <p:blipFill>
          <a:blip r:embed="rId4"/>
          <a:stretch/>
        </p:blipFill>
        <p:spPr>
          <a:xfrm>
            <a:off x="7645320" y="1865160"/>
            <a:ext cx="393840" cy="295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04:18:33Z</dcterms:created>
  <dc:creator>锐普PPT</dc:creator>
  <dc:description/>
  <cp:keywords/>
  <dc:language>en-US</dc:language>
  <cp:lastModifiedBy>lenovo</cp:lastModifiedBy>
  <cp:lastPrinted>1899-12-30T00:00:00Z</cp:lastPrinted>
  <dcterms:modified xsi:type="dcterms:W3CDTF">2013-04-20T13:28:51Z</dcterms:modified>
  <cp:revision>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