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26B-4A7A-45A8-A1D6-187BCFC8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A98-A897-49BA-947B-5BDF31E0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1FC-8C0A-4DB1-B6CE-F3FCFBD6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ED8-EC60-4386-B8BE-7BC65B36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DD3-4182-4CD8-877E-8A6206C2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A32-447A-4867-9C06-1E371F90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544-3233-4671-878A-D326D272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81D3-D283-4878-8CBD-7CD2BC97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92A-67A2-4013-AC6C-FFF679C3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D28-6F65-4D42-962D-20B062C8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D3E-DB71-4EB6-BD28-4D16F44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44E-485C-4324-91CF-EAAD121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B999-7793-4164-9D6E-A828D1AFC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70960" y="1341360"/>
            <a:ext cx="4569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真诚祝愿孩子们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</a:t>
            </a: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华文琥珀"/>
              </a:rPr>
              <a:t>------</a:t>
            </a: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华文琥珀"/>
              </a:rPr>
              <a:t>平安健康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    </a:t>
            </a: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华文琥珀"/>
              </a:rPr>
              <a:t>学习快乐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    </a:t>
            </a:r>
            <a:r>
              <a:rPr b="1" lang="zh-CN" sz="7200" spc="-1" strike="noStrike">
                <a:solidFill>
                  <a:srgbClr val="000000"/>
                </a:solidFill>
                <a:latin typeface="华文琥珀"/>
                <a:ea typeface="华文琥珀"/>
              </a:rPr>
              <a:t>生活愉快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95280" y="2060640"/>
            <a:ext cx="6264360" cy="29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年之计在于春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日之计在于晨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生之计在于少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4000" y="2421000"/>
            <a:ext cx="8137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新学年、新起点、新希望</a:t>
            </a:r>
            <a:endParaRPr b="1" lang="en-US" sz="2400" spc="1" strike="noStrike">
              <a:ln w="1260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挑战自我、再扬风帆！</a:t>
            </a:r>
            <a:endParaRPr b="1" lang="en-US" sz="2400" spc="1" strike="noStrike">
              <a:ln w="1260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爱我学校、尽我职责！</a:t>
            </a:r>
            <a:endParaRPr b="1" lang="en-US" sz="2400" spc="1" strike="noStrike">
              <a:ln w="1260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良好的开端是成功的一半。</a:t>
            </a:r>
            <a:endParaRPr b="1" lang="en-US" sz="2400" spc="1" strike="noStrike">
              <a:ln w="1260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250920" y="2421000"/>
            <a:ext cx="6119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假期欢乐点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900000" y="1557360"/>
            <a:ext cx="4969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latin typeface="华文琥珀"/>
              </a:rPr>
              <a:t>盘点收获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50920" y="1052640"/>
            <a:ext cx="446544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琥珀"/>
              </a:rPr>
              <a:t>作业检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0" y="2133720"/>
            <a:ext cx="611964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"/>
              </a:rPr>
              <a:t>收心学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755640" y="2852640"/>
            <a:ext cx="5111640" cy="194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华文琥珀"/>
              </a:rPr>
              <a:t>确定目标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24000" y="2565360"/>
            <a:ext cx="5508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安全</a:t>
            </a: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·</a:t>
            </a:r>
            <a:r>
              <a:rPr b="1" lang="zh-CN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生命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8T09:04:35Z</dcterms:created>
  <dc:creator>微软用户</dc:creator>
  <dc:description/>
  <dc:language>en-US</dc:language>
  <cp:lastModifiedBy>微软用户</cp:lastModifiedBy>
  <dcterms:modified xsi:type="dcterms:W3CDTF">2015-03-01T02:48:34Z</dcterms:modified>
  <cp:revision>8</cp:revision>
  <dc:subject/>
  <dc:title>幻灯片 1</dc:title>
</cp:coreProperties>
</file>