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gif" ContentType="image/gif"/>
  <Override PartName="/ppt/media/image21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7.jpeg" ContentType="image/jpeg"/>
  <Override PartName="/ppt/media/image31.wmf" ContentType="image/x-wmf"/>
  <Override PartName="/ppt/media/image32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E5E-5E22-457E-91DE-80C364C0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A47-0CB0-4D86-A63D-E60BAA0A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1F34D-309C-47AB-943D-72656AE7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D3537-17E1-4E25-B211-D520206C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DC4E6-618B-4CD1-9FC1-EAD53BF0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09A2E-FDAF-4C60-8785-2DB9CE12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878C8-3BD7-47A8-873E-5469E9AE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49144-561C-492E-A76A-B9DDDE57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C0D33-EF99-4342-B998-757B5D82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85865-6D1F-4B14-8C44-75C83704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E921E-D388-4E15-B3D1-D3F3C50D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0A9E6-F19E-4085-A026-D36C6FBD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C46-7513-44F8-A428-09D0412F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D996F-80BA-4AB8-B73B-934E5CB9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D1DC0-FF7B-49A3-8BDC-A29713D4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F0533-819B-4416-8F29-55F9F081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95B7C-341C-4B11-80D5-68C79A0C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99308-E29F-40DB-AF46-562EDDD9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E17D6-5875-40AE-B1F9-9EEBACE6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2B122-2A5D-4014-9686-76228829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59DEA-F228-4B5F-B791-3FB4D3E7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E0D72-65F3-4F4D-89B8-49C71D34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C8B2C-5604-4E9A-B900-F065388E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226-62E1-497E-A4DE-1B4E2BEC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C6CD7-9510-4881-A65C-02A8E899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42AA7-7FC6-420B-A8ED-4EFE7823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EC0BD-D7F2-4A5D-B58D-E3EAB762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B9CDD-70D1-4C45-97ED-8676F7E3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0B4B7-16E3-4428-9F29-29C69E8E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3C87E-DF39-4830-8EFE-A23C395C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3E398-ED94-4BEE-8D2C-2D327160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D5F4E-BF91-4FE4-AE4F-5EAA181E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F3D99-FD9E-451F-A350-546954D2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083FA-1A3E-400C-94A9-98BDD5A9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53FB-5001-4C6F-813B-E3A97BCC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7D55A-61CB-4ADE-958F-4FD6DADC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3CB9C-FE14-4755-8C17-57F40FF0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B6DD9-7FF3-4A51-87A1-CEA2DBE0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ED00B-8DE4-496D-AB7F-642DE4A0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4BB4A-9CC5-4C96-9D9F-2C5667BA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6AE66-5BFF-4DEA-966F-4C520E08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448C7-9137-472B-9F11-E66F1ADD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F9A31-DF38-41B8-B3F2-06BC6739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C0287-9576-4348-BDAC-18ED3313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E8412-2A9A-473A-BBD3-7A2BE0B2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12AE-DCCC-41EC-8C3A-0296E345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CE862-68F4-4FD7-A12A-767EC032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212C8-6419-4E17-A1C3-FC2328AF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F5589-9971-4BAC-8D71-9A6A8CB0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E8D8A-5699-4D4C-BDD1-3BA5310B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64284-F62A-4137-A5C0-EEADDACE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ADF67-8543-497E-98A1-F540DD71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DEA34-854A-4AE7-B7E2-61F29E73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94D1E-62F2-4F03-AD7F-D7B449EA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E59C8-47E0-4E13-9ED8-248ABD6C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BC351-D20D-4F99-B0FB-5883EBDA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0806-49E1-4399-8222-B9CB6BA6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FFDA5-5EC4-4C73-B1E1-3F78BBC8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C0A0A-5B62-4B27-9AF8-C2D424AE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F7DEE-901F-4920-965F-6F6FA658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98B78-8114-4549-BE0F-2D763D36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EEA72-112A-426E-AC44-C84185C2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2B591-5520-44E1-8D58-ECFA852F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D8F45-5B81-4425-A580-EE742EE6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892AB-B3E6-4A09-B256-0E1BEFE4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9B7676-89DC-4B16-B11E-DDF7518A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71545-09C3-490C-972F-4B14C331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90B9-90EA-41B1-8F55-E4086C28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4C62A-3876-4053-A9E0-C54E213C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69EFF-D330-4D9D-AF28-AE03437F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1F122-E975-4CE3-A874-045DC9FD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54AE0-EF32-422D-9AA9-4165E98C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6CDB18-09F2-47FF-AD23-615328B9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4CE50-A6FA-4F4D-9A27-01EC7E08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BCAD8-B439-4570-B8B5-4AEFCB38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C4601-EFEF-4210-8A46-463AC576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31F6ED-6080-4DE6-BCDF-A9BFDBEC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B4159-587E-422C-B89D-DA12A10A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E683-AB8F-4603-8938-6DC4A4B5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02B20-48C8-450E-A8C1-E1B6F652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3FE73-8AEC-4385-B618-99EE2DA3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0B6DC-5674-4DAF-9E8D-166AD44B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CDFA5-B722-4215-B690-407D4F78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2C628-244C-4793-B4AF-945BE3A3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5F662-42AE-417B-A18A-664C8F5D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D4CE6-1E58-4A90-8B85-166DF217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CEDA4-0268-40B0-8490-DC90456F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2F155-F8E7-4368-B516-F684F4F7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F906F-ECD6-4319-AA7B-D5AA9DC3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2078-F2C6-44D3-B3E8-E2B40E39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5351B-EEBE-4635-92A8-DFF82488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3C163B-5B10-4FD6-87B4-1BA94E7D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59EB4-07E1-478C-85A9-0144B5F0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CDAB8-6CB3-4812-84BE-876AC6B3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A9966-B689-4521-ABAC-0791614D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CE39A-E956-4695-8C6D-283251FF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43EFF-C32B-4946-B362-67C9734C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4555D-C5BC-4DB5-A1FC-2595768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147A2B-B707-4B79-B569-4BDC5688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804A1-FBD6-4F3D-8DDD-71320BDD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6B79-C84B-459A-944A-9C9BB2F9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CCF73-E6DF-496C-B907-E1A6CD6B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AE0FE-3265-42C7-A7B3-93C6820F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DF971-6A1C-49F3-A1D4-9460C040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1BCFEF-4A1E-440B-9F16-DC226F16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5937A-7DA3-403D-8B2F-125B454B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BE710-EFBC-4934-A989-9D4284FE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A2D3F-0B51-4ADF-93A0-6D4D03E0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8DCFE-0794-4D3F-9EAE-0BE462BE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388FC-2228-4D1B-B5A3-4234BDD8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FA316-D777-42E0-B7E8-C942D5C2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1BA-7A0D-4FB5-8115-D1AEF27E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4ED6-1017-4E56-9F2B-CEB98824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CA207-7694-46D7-A6A8-F39FF88D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4FE81-02EF-432F-BE54-E4838D37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81BD5-1E5D-44A8-A663-8B0B9E09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2A11FB-C2AA-4732-85CC-1FD9D17C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3DA1C-16DB-4E66-8227-2AEEF4DC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1B3933-602F-42EA-A70A-65B64F50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7C459-C05A-4C2F-AB60-79E97E2E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D495A-CDB8-4B6E-9F2F-D12C02B1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25946-C10E-4FEC-90FE-FF7FBB90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F2BB13-DA30-43C6-BB8E-02F9BC00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7A6F-3CF8-4CFE-BDAE-8C25CBE3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5029F8-2403-46EB-BA86-04023F71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B3CB4-A94E-49BF-8BB6-A97893A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AAB88-54E1-4D7A-B044-44CA4749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5F4F29-F571-4108-A4CE-84FA7324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A9E8A9-01AE-44D5-9EF2-5FC8CE01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131BCC-D2E4-4DE6-B38B-23835BE9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7A0068-0EB0-466C-89CF-5FE12AAA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DD81B-E06F-419C-B638-F7A6D3C2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2FC8A-6C0D-445B-A484-792ECDBC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567A3-97DD-4881-BF9D-337653FF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868C-1282-4A99-96C4-CA871F63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E8061-2822-4CE6-86A2-E179B22A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ACBDE-1036-4104-BAF9-B210D002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8B6035-79B1-455F-BC24-8995B15E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2DBFC3-D427-4B7C-9C0E-6FC8D40D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C97FF-714D-4448-B331-7A284CB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08D99-0126-4B11-8A01-02E5C453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123DE0-8274-452D-931B-2438EA05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2E614E-C925-4814-AB9B-4456F339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6CC21-311A-468F-93E8-4A7604B3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F9ACF-DA3B-42C0-8CC1-55CF859E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90C6-7320-4F90-8E52-9AC5ADF4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BF771-E8A4-4D3B-AAD6-8A651024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0CCCDD-CF56-46DF-AEAE-91B43E38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8A11F-B196-480A-94DC-92AEC8C0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9CE61-2D0F-49A7-B2DF-06EC1D43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075F1B-8AE3-4A01-8037-009AD317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79DC7-235B-44F4-AD5B-93350CD1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8EFA84-F1EE-417C-94E6-5E91E7BE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01DE16-ED70-4F01-B580-93FC4BA6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E71F4F-2FEE-4EDB-848D-F66513EC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8DCA1-EA45-4E56-A9AD-9171F783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EE2E-F4E6-4792-8BFB-3BDBC5FF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C1575-800A-4E78-93D1-8C9C1924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9920E-C225-4B07-9FAB-4328C44A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556B09-9A3E-4E74-B75A-EF2EC135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F9D7F2-6DD7-4E49-BD05-53A85912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25F428-EA3B-4367-8CA3-E44EED05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BBF3C4-4383-4A3D-B58E-A5F3C44E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77FA48-F188-4BAC-9E6B-E830B93B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FE55E4-A590-43E1-A049-AFFA89B5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7B2B99-F6B9-464C-86D5-B176FCF7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374C2D-B560-4DAF-B440-57A86AA3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234E-8EBF-444F-B211-CF43A32D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2C852-C8CA-4953-A5C8-A4599C10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42CA8-8053-476C-BE41-70171D98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CC2A13-7B8E-4BED-8F3E-BF45BCAF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68C847-3402-44AB-9EC8-A4CEF73E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E0D1BD-614B-45C1-927D-1AB4306B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A21DD5-6782-485C-A835-5E46308E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2C421F-4FA7-474D-A193-28F060A6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8D82CC-3AF8-43AA-B184-ECDE9220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A11890-4B61-42AF-AA5B-E103BF48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DF87EF-0CCD-4B96-85C3-52E491B3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B83D-11D8-4BE9-8D36-FB1BD47C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BF962C-1CFF-4C43-B0DE-15E824F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86011F-817B-4746-98F7-3D56DAC6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4D7FD5-B5A0-47F7-9A17-49BC9E29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684858-9483-4956-AEB5-E0B2EF83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EA643E-ECDE-410C-B1A5-2988D0C5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41B693-C27E-429F-88F6-5AE581A7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53708B-10E4-4F45-923F-9FE82211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7E94AF-F0EE-44FA-B227-17BD27D6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D27C7F-54F2-4FB9-ABF6-E38ABE5A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E928EF-F818-4281-8073-86F3A952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BF23-0277-4C9E-84F4-E6C39B6E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2F6067-767F-4FCD-9F6D-E4FB8E10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B90E00-3785-4125-8856-2CB2B33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F58A8F-A46F-4287-AC80-AFD18565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CCFED7-9B80-49BE-ADB2-3F58DE00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F99AE3-68E8-4372-B724-86A74DB6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26AF7F-3FA8-4728-8F2B-4D994842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55ED3D-8D07-4C46-857E-754C05E9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185769-3F43-417A-8BEF-735ACCE7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F32A5C-7B7F-445D-9984-E3D5A00E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630002-35E0-489E-B546-B5131132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F7FE9-16A3-447A-A186-E6D23BDC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2D359E-3689-4C26-B50C-1882878C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946C72-9616-4F48-9C69-C04B0236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A66BDC-C2B7-40ED-B82E-7553B5A0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3CAED7-A947-411A-9193-A76AE756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98641D-24A8-4768-99C4-91B29555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149512-C3EF-4F4A-8471-621E2C27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880CE1-9691-4B0B-9159-1099A9B9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2BD147-55B7-4BFC-BBE7-D1224C8F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CF359E-3BC8-46E2-ADAC-640E46DF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597005-59E3-4EE5-83F4-407CBF27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AE58-FEDF-47A2-9546-2E87EC30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B497C1-5058-4DA8-8DE7-CEE37305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B56976-3D19-4F57-9FCC-7896EABF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6F8AA9-74FB-422F-91A2-5AF1716B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4CCE27-8F80-40E4-BBA0-9DF56037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3A8379-A5D9-4049-B88C-87BCDB75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81E842-482F-4D02-A8CA-0B22D974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8606BC-BF7F-4E95-9955-350A99EE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2B540E-2857-4E45-AEC2-A0084A98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9844D1-D524-40F2-BF56-1BFB856E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81AE2D-EC58-4E6C-9BF0-7DFE8BFA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7AD-EA16-482F-8988-A8B8C19A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9AEC4-FE98-46EC-A658-29D0191A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DBF98F-FED2-428B-8054-7D2842EA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528D-C064-44D7-A4B6-CE0ABF6F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A4275-DD6A-412A-93D7-0C234502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7021-564A-4FF4-B752-9ADDCC3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FD53E-57A9-4BAA-B23F-F85B74BF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AA77-0D0D-496B-82CF-157A8F9A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3044-9AD1-4B9A-9448-082C6A0A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03A75-0F6F-41FE-948D-DF41F939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171A-D35A-4673-95C2-EC960DB5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B73E8-C8AC-4186-BF82-E6EE4153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4A1-405D-4F0C-AFDB-D37E1AA6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BB93-1E4F-412E-80EC-CEBA8865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381FD-86C1-417B-98A7-4F376773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AD44C-79B8-4954-BCB8-DE436CB6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98EF-047D-4704-A856-F941552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B656-05D3-4F54-AC95-CB8BEDFC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9A16-4F63-4F84-B820-59D4A6BF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6F2AC-9586-4DD2-B8A2-8256C82A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C9A6-3A58-434C-8D7F-A4F02987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F4B6-D94E-411F-B7F1-8B25744A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A5965-3F81-434D-B377-598F5EFA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EF8-C350-4074-8CA9-D2885D55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A3FDD-3841-40E7-BF26-9B9D6D45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B0C53-69C2-409B-A44E-A5C86CC0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A0B2F-AE3A-47CA-8BB1-606F00C3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655B7-D543-4033-B6F9-A1AEE7ED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5EC8E-6737-4047-9B55-E0B1F347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CFFD5-73A1-4E37-B22A-A879D025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86DE9-2BA5-4808-A9D8-6A734847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4FC18-91F2-485C-BBFF-6A1BE7C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51B39-62D4-4AEA-8B8B-3F305FA7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8A1C3-486C-4711-B9BC-D9DA6273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8C6-3D67-4926-B548-A3E9D35B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82D0F-D84D-4814-85F1-F87A96A9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9A065-8D47-40E0-AA84-BB627C34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4E34F-135C-4152-AC88-603A879D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433FB-CED6-480C-B982-11F25F04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86F58-6DBD-4F25-A5C9-2D37C292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D0507-ECFF-4560-B1BF-EA718E51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7A2FD-B11A-4360-87C7-B9C5644B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F4B34-9477-476E-BE76-F221C8CF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AE2FA-7C4E-4CA2-981E-D00564B5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FF132-B8A2-430D-B453-8E13F15F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6FE-BB41-46CA-A52D-30B16ED0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7C389-10A2-4EEB-AF5F-7EBDA1A5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3C55C-261C-4AA9-8B03-E8054D52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D5290-1E51-40CD-8813-3C3080C3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6FBDE-7DCC-4FFC-BD1E-AB7AF899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50B30-4295-4B15-AD62-01079C7D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4192A-E7D6-4BDA-8076-085C39FE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9444A-36F3-4F8C-B4D2-9EDDC89D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36DF9-FBC3-4A45-B084-B2F35DBA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78FE-5980-48E3-B8F3-D52EA9E9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D4310-EF56-45A9-976A-10BF9FBA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A21-4753-4DFD-9160-0DDAECC1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0C041-AC92-499C-A6F5-0A40E53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26398-4403-4B34-A43B-DEFD17E5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D52DE-7C4A-4A7C-A9F6-8A72F38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83D02-7304-4E6F-BEFA-7EE1A540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7BB59-0AB6-453C-950B-26257008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95CF6-3A10-40FC-84D2-F8F5E11B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08773-04D2-46DC-9BD4-5C2273C4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238EA-9F46-44E3-AA9C-FF65DDB4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E3EA0-0EB3-4B08-B20F-0DE62927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FDE53-D151-489C-A55C-DC3BF020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D6B-7E52-4F15-B598-21DCFA89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9D1A-B7C1-410F-9071-E8F84865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D66C2-1E21-4673-B053-B2543B08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AF620-9B66-40D0-996C-3E255346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4B834-8DF0-4826-9381-B135BE2A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FDA7D-6766-4930-9453-5D187742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75321-30BE-453B-A442-8817F5B9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A36EE-5BC8-437A-AE62-60EB5257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0E74C-51B0-4B15-A8D7-78F8D560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1A69A-2790-4A49-942A-352B767F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8D740-DCF9-4F1A-A29C-DAF643B2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47AA8A1A-B4DA-4F09-985F-4CEF630BC8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6E212600-F718-44B3-B8DA-31C98861B3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9949F2FA-EADE-4A0C-A068-8FDE104362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795B8876-65F1-408C-B205-C645472C2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336C5DAB-64FA-4F30-9693-BD99C862C5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72F35489-D5C0-44A3-B88C-6584A6E32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4E633F7D-E4FE-4A2F-91FF-FA4C38F095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8A1621E4-F12D-46F5-A20E-C78B2CA91F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754C4892-1B23-4E9F-9918-AEB3C70DCC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EF5D2B75-BBCA-45F7-A7B5-709910F45F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C786C83C-6B7C-448E-AA9E-406586D26D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23319728-9CA2-4B47-990E-BBBBC42FC2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8A4C8820-B74B-452E-9F96-4CC7A875D5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8B5EC2AA-9B33-4B38-84EC-27F3CA9122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BD840144-F3EF-4D43-A01E-EF3D06BB1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21BC589A-59E8-4494-9522-76D3133650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E8828462-FAC5-4C9B-AB42-553AFB9285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F2CFF04A-E5B5-4C5E-8245-9824E0BB72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238C15F4-673F-483F-9097-D445643ADC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EA68E2CE-5F61-4BF1-827C-FF7045B7D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482BA90C-7863-4F57-AD2D-67E95D78E0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B41A8D51-9B4D-44AA-ABC4-7D8F9D6EEF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E9677719-501D-4CFE-AC46-23FD5860B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D9B303B2-8F2D-4926-B445-DB93DC29F3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33726EF5-CA08-4E6B-A05F-64E4B90B3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图片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611280" y="333360"/>
            <a:ext cx="7848360" cy="119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书，以书为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11280" y="1052640"/>
            <a:ext cx="7848360" cy="350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你看：款款走来的诸葛亮告诉你什么是智慧；抱打不平的鲁智深告诉你什么是仗义；渣滓洞中走来的江雪琴告诉你什么的美丽；书写壮丽人生的保尔告诉你什么是理想……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       你听：“惊滔拍岸，卷起千堆雪”是苏东坡对历史的慨叹；“安得广厦千万间”是杜甫痛惜百姓疾苦的呐喊；“先天下之忧而忧，后天下之乐而乐”是范仲淹政治抱负的吟唱；“长风破浪会有时”是李白追求理想的决心……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       你闻到了吗？“竹外桃花三两枝”那桃花的馨香；“映日荷花别样红”那荷花的芬芳；“采菊东篱下”那菊花的幽香；“凌寒独自开”那梅花的冷香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" dur="9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" descr="中国人民大学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2"/>
          <p:cNvPicPr/>
          <p:nvPr/>
        </p:nvPicPr>
        <p:blipFill>
          <a:blip r:embed="rId3"/>
          <a:stretch/>
        </p:blipFill>
        <p:spPr>
          <a:xfrm>
            <a:off x="1979640" y="0"/>
            <a:ext cx="4991040" cy="685800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3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6"/>
          <p:cNvPicPr/>
          <p:nvPr/>
        </p:nvPicPr>
        <p:blipFill>
          <a:blip r:embed="rId5"/>
          <a:stretch/>
        </p:blipFill>
        <p:spPr>
          <a:xfrm>
            <a:off x="0" y="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p:transition advTm="20000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" descr="xinsrc_35060129113207410476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 txBox="1"/>
          <p:nvPr/>
        </p:nvSpPr>
        <p:spPr>
          <a:xfrm>
            <a:off x="250920" y="549360"/>
            <a:ext cx="785016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理想在远方，梦在脚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137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用一个词概括高中两年来的感受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" descr="图片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>
            <a:off x="1928880" y="2286000"/>
            <a:ext cx="6665760" cy="1099440"/>
          </a:xfrm>
          <a:prstGeom prst="rect">
            <a:avLst/>
          </a:prstGeom>
          <a:solidFill>
            <a:srgbClr val="ccff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认 识 高 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" descr="damen"/>
          <p:cNvPicPr/>
          <p:nvPr/>
        </p:nvPicPr>
        <p:blipFill>
          <a:blip r:embed="rId2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BRLG1288746689RPWX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shibingtuji1"/>
          <p:cNvPicPr/>
          <p:nvPr/>
        </p:nvPicPr>
        <p:blipFill>
          <a:blip r:embed="rId4"/>
          <a:stretch/>
        </p:blipFill>
        <p:spPr>
          <a:xfrm>
            <a:off x="0" y="31680"/>
            <a:ext cx="5076720" cy="682632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 txBox="1"/>
          <p:nvPr/>
        </p:nvSpPr>
        <p:spPr>
          <a:xfrm rot="5400000">
            <a:off x="4440600" y="1975320"/>
            <a:ext cx="5616720" cy="261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i="1" lang="zh-CN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36147" dir="2700000" blurRad="0" rotWithShape="0">
                    <a:srgbClr val="b2b2b2">
                      <a:alpha val="50000"/>
                    </a:srgbClr>
                  </a:outerShdw>
                </a:effectLst>
                <a:latin typeface="宋体"/>
              </a:rPr>
              <a:t>当幸福来敲门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36147" dir="2700000" blurRad="0" rotWithShape="0">
                  <a:srgbClr val="b2b2b2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63" name="" descr="2109317g8r29b7y6ygr8cx"/>
          <p:cNvPicPr/>
          <p:nvPr/>
        </p:nvPicPr>
        <p:blipFill>
          <a:blip r:embed="rId5"/>
          <a:stretch/>
        </p:blipFill>
        <p:spPr>
          <a:xfrm>
            <a:off x="0" y="0"/>
            <a:ext cx="7143840" cy="685800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852706aad6df6cd839f1211c358f281220110619160243"/>
          <p:cNvPicPr/>
          <p:nvPr/>
        </p:nvPicPr>
        <p:blipFill>
          <a:blip r:embed="rId6"/>
          <a:stretch/>
        </p:blipFill>
        <p:spPr>
          <a:xfrm>
            <a:off x="7093080" y="0"/>
            <a:ext cx="2050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" descr="0031"/>
          <p:cNvPicPr/>
          <p:nvPr/>
        </p:nvPicPr>
        <p:blipFill>
          <a:blip r:embed="rId1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>
            <a:off x="0" y="213192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1700280"/>
            <a:ext cx="53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三是一个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承上启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期，连接着高中和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三是一个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满怀希望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期，光明的未来似乎触手可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08000" y="47242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们需要前进的动力，需要一个良好的心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3814560"/>
            <a:ext cx="51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高三是人生中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最痛苦、最枯燥、最重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阶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49dd0c15h5eb0099378db"/>
          <p:cNvPicPr/>
          <p:nvPr/>
        </p:nvPicPr>
        <p:blipFill>
          <a:blip r:embed="rId2"/>
          <a:stretch/>
        </p:blipFill>
        <p:spPr>
          <a:xfrm>
            <a:off x="0" y="6381720"/>
            <a:ext cx="5076720" cy="47628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49dd0c15h5eb0099378db"/>
          <p:cNvPicPr/>
          <p:nvPr/>
        </p:nvPicPr>
        <p:blipFill>
          <a:blip r:embed="rId3"/>
          <a:stretch/>
        </p:blipFill>
        <p:spPr>
          <a:xfrm>
            <a:off x="0" y="0"/>
            <a:ext cx="5076720" cy="455760"/>
          </a:xfrm>
          <a:prstGeom prst="rect">
            <a:avLst/>
          </a:prstGeom>
          <a:ln w="0">
            <a:noFill/>
          </a:ln>
        </p:spPr>
      </p:pic>
      <p:sp>
        <p:nvSpPr>
          <p:cNvPr id="1072" name=""/>
          <p:cNvSpPr/>
          <p:nvPr/>
        </p:nvSpPr>
        <p:spPr>
          <a:xfrm>
            <a:off x="14400" y="609480"/>
            <a:ext cx="52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高三是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沉重压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时期，作业和考试多得难以统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39" dur="4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4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" descr="2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179280" y="260280"/>
            <a:ext cx="8785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有人说：高三很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要说，不苦不累，高三没味；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拼不搏，等于白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进入高三，事务繁多，尤其要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作安排，调整心态，做快乐的读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。其实，生活中不是缺少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而是缺少发现快乐的能力，缺少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养快乐的素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" descr="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做一个快乐的高三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你一招——数学题做累了，与语文相伴；英语题做多了，与语文相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要说高考文科语文分值大，我们要重视，其实，语文将伴随我们一生。更因为语文是我们的母语，我们没有任何理由放松！“母语是民族文化的根，蕴含着民族文化的情结、民族的睿智、民族的思维方式，不尊重母语，鄙视母语，是愚昧无知的表现”（于漪先生语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因为生活离不开语文，高雅的心灵生活更是出自美好语文的熏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50920" y="189000"/>
            <a:ext cx="8640720" cy="37508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语文复习指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明确考点，做到心中有数。六个能力层级：识记、理解、分析综合、鉴赏评价、表达应用和探究六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盘点知识漏洞，明确自己着重解决的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复习每一板块时，知识点、重点题型、方法归纳都要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</a:rPr>
              <a:t>做好笔记并归纳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</a:rPr>
              <a:t>坚持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训练，不能急功近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</a:rPr>
              <a:t>积累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很重要，眼界要开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" descr="P709001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 txBox="1"/>
          <p:nvPr/>
        </p:nvSpPr>
        <p:spPr>
          <a:xfrm>
            <a:off x="0" y="1844640"/>
            <a:ext cx="7956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5929" dir="2028877" blurRad="0" rotWithShape="0">
                    <a:srgbClr val="b2b2b2">
                      <a:alpha val="50000"/>
                    </a:srgbClr>
                  </a:outerShdw>
                </a:effectLst>
                <a:latin typeface="宋体"/>
              </a:rPr>
              <a:t>你若盛开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45929" dir="2028877" blurRad="0" rotWithShape="0">
                  <a:srgbClr val="b2b2b2">
                    <a:alpha val="5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5929" dir="2028877" blurRad="0" rotWithShape="0">
                    <a:srgbClr val="b2b2b2">
                      <a:alpha val="50000"/>
                    </a:srgbClr>
                  </a:outerShdw>
                </a:effectLst>
                <a:latin typeface="宋体"/>
              </a:rPr>
              <a:t>    </a:t>
            </a:r>
            <a:r>
              <a:rPr b="0" lang="zh-C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5929" dir="2028877" blurRad="0" rotWithShape="0">
                    <a:srgbClr val="b2b2b2">
                      <a:alpha val="50000"/>
                    </a:srgbClr>
                  </a:outerShdw>
                </a:effectLst>
                <a:latin typeface="宋体"/>
              </a:rPr>
              <a:t>清风自来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45929" dir="2028877" blurRad="0" rotWithShape="0">
                  <a:srgbClr val="b2b2b2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0" name=""/>
          <p:cNvSpPr/>
          <p:nvPr/>
        </p:nvSpPr>
        <p:spPr>
          <a:xfrm>
            <a:off x="2333160" y="5300640"/>
            <a:ext cx="470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汉江科技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2017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届语文备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250920" y="50760"/>
            <a:ext cx="8640720" cy="40557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i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各个击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"/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离开你我很难过”—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争分重地，基础知识，分不可少。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64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篇志在必得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"/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是否依然爱我”——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文言复习，充分利用教材。（课本复习夯实基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"/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众里寻他千百度”—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现代文、诗歌阅读，抓住方法很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"/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说爱你不容易”—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作文备考，练好一种拿手文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zh-CN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9280" y="260280"/>
            <a:ext cx="8785440" cy="54018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特别提醒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"/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好字很重要。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卷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功夫要做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"/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反刍式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记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让知识遗忘慢一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"/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会调节，不要为了坚持而坚持，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效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第一要考虑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Wingdings" charset="2"/>
              <a:buChar char=""/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重视语文，学习语文不仅仅是为了考试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好语文，幸福一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不怕输在起跑线上，就怕输在转折点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今年对我们来说就是人生中最关键的转折点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无论你以前如何，现在你都要从头再来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" descr="5bc0c343t5ff716d3a402&amp;000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14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201003121755101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" descr="图片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2427840" y="1857240"/>
            <a:ext cx="4204080" cy="1099440"/>
          </a:xfrm>
          <a:prstGeom prst="rect">
            <a:avLst/>
          </a:prstGeom>
          <a:solidFill>
            <a:srgbClr val="ccff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面 对 高 三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42960" y="357192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处理好两种关系</a:t>
            </a:r>
            <a:r>
              <a:rPr b="0" lang="zh-CN" sz="4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" descr="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214200" y="44280"/>
            <a:ext cx="89298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自己与自己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要把自己奉若神明，也不要把自己说得一无是处，我就是我，我有我的不足，我也有我的优势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地对待自己，评价自己，把平凡的学习当成宏大的世界，相信自己一定能够干好！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既然到这里来，我就是有自己的目标，自己的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然，也要学会享受自己的快乐．学习的态度决定着你 所能达到的高度！希望大家能够养成好的学习习惯，有条理的生活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说了算，定了干，到这个点，就干这个事，保持适度的压力，也要学会达观地看事，高效地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之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事做，赶快做，认真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事做不至于无聊，赶快做不至于拖沓，认真做不至于后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" descr="边框"/>
          <p:cNvPicPr/>
          <p:nvPr/>
        </p:nvPicPr>
        <p:blipFill>
          <a:blip r:embed="rId2"/>
          <a:srcRect l="4204" t="4863" r="2744" b="26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6" name=""/>
          <p:cNvSpPr/>
          <p:nvPr/>
        </p:nvSpPr>
        <p:spPr>
          <a:xfrm>
            <a:off x="214200" y="428760"/>
            <a:ext cx="89298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自己和他人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善待他人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善待自己。人字结构就是互相支撑，人字拆开，一撇一捺，少了一样，人就不是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师生之间应该是一种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互帮互助、教学相长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关系，教师帮学生学习，学生助老师教书。老师俯身甘为学生牛，你们不要横眉冷对千夫指就行了。我错了，虚心改正；你们对了，大胆坚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之间也应该保持一种友好的关系。大家来自四面八方，也是不易，有福，有缘，也请大家惜福，惜缘。希望师生之间、你们同学之间，在这一年中达成一种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民主、和谐、平等、合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05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214200" y="0"/>
            <a:ext cx="8713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昨夜西风凋碧树。独上高楼，望尽天涯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衣带渐宽终不悔，为伊消得人憔悴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众里寻他千百度，蓦然回首，那人却在，灯火阑珊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357280"/>
            <a:ext cx="59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畏艰难，目标高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坚定不移，孜孜以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千锤百炼，终成正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46407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一起努力，加强合作，争分惜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共享语文乐园，决胜高考战场，铸就人生辉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图片1牵手"/>
          <p:cNvPicPr/>
          <p:nvPr/>
        </p:nvPicPr>
        <p:blipFill>
          <a:blip r:embed="rId3"/>
          <a:stretch/>
        </p:blipFill>
        <p:spPr>
          <a:xfrm>
            <a:off x="5364000" y="2143080"/>
            <a:ext cx="3780000" cy="252108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4098960" y="5999040"/>
            <a:ext cx="4838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成材始于觉醒，心态决定命运，自信走向成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11"/>
          <p:cNvPicPr/>
          <p:nvPr/>
        </p:nvPicPr>
        <p:blipFill>
          <a:blip r:embed="rId4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" descr="北京大学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复旦大学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南京大学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" descr="上海交大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" descr="武汉大学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浙江大学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11:02:57Z</dcterms:created>
  <dc:creator>微软用户</dc:creator>
  <dc:description/>
  <dc:language>en-US</dc:language>
  <cp:lastModifiedBy>Windows 用户</cp:lastModifiedBy>
  <dcterms:modified xsi:type="dcterms:W3CDTF">2016-08-30T09:01:08Z</dcterms:modified>
  <cp:revision>12</cp:revision>
  <dc:subject/>
  <dc:title>幻灯片 1</dc:title>
</cp:coreProperties>
</file>