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C9D-9E7B-4591-8033-9DBD803D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38A-ADF4-4958-90E7-B765F771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AEFCD-623D-4060-B56C-764C94D3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DF6BC-E9E7-4616-82D3-1D126112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C5D6F-F618-4600-AE27-10FDB256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80CB2-C0BE-41DA-964D-63BE368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0998B-BC55-4F40-B3E9-5CF62BA6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9E949-A776-4838-93A7-FC15DB21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58307-960C-474B-9C13-2F795BD4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93CA5-2F59-47B6-99E6-C406DEEB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E0CE4-768B-4D8B-838B-29F0CBE3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16B00-394E-4045-AEF6-64953493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14B-A384-4BD7-AB6A-F195403E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CC93C-841B-4E0C-9830-ABFD5F24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082D2-5497-4111-80CE-E03C85B3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A3878-2FEB-4391-BD83-4C1B83FF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91B7F-02D3-419B-BBD2-C56CD3C1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4B37B-719C-402C-893D-0CC5A91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D7D8E-A7F6-4549-B448-DF6E9930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F01E0-6672-4863-9B9E-A3174AAF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14E6A-7C74-4A47-8240-4F977E1D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2778D-D556-4528-A13A-F2977C4B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533F9-59B0-400C-B562-9B6466DD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BED-67A4-4088-A6FF-D70BC940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2BD2A-9EF1-4B53-A07B-CC3ED731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64067-74E5-4BE3-BDBB-7E1FA959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81599-01CA-4F33-AA6C-3C7AF64C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89758-CDA9-405B-8906-946010C1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E0AE2-AA6D-4E8E-A3FE-AF1F5DC7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956F7-A59E-4EF5-9B96-BA80F4A9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2F458-AAAF-4FCD-A0A9-94430586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B78E5-1DEC-45BA-A91D-A941C871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D4303-F0E4-4AC5-8786-D5B23E90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91F18-3F0A-4B8F-B767-06C1DBD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DFEE-A1F1-413C-9EF3-714D3C66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4FB4C-E605-4446-AE33-22A659D4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9A149-4682-40A4-A70A-B0482CE5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99994-7955-4B48-AD1D-193112A4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B361-44C2-4334-BE00-98C6E6E5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F56C-C685-4280-9A03-5733F9BF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FCCC-7FF3-472F-A4D1-D0855AAD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FC2A-507C-4302-98E0-7546AB6A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40F-D532-4D7E-BE0A-C1A459AE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7E54-A641-4FC8-B2E5-4A80C649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0E9-A741-4656-B8A7-4B482000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C3FD-5F33-4F23-942E-666952CF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1424-37FB-44CC-A2FF-2B98123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0DAF-3AA9-4742-B05F-B732A8E5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0794-3061-4C2C-9607-F74F6A96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2BD3-1DBB-45AA-9320-C0EC69D3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37B65-8496-4BF9-AF2B-0D670630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0D4D-9221-4E71-AA80-B9243CF0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EA56-BDAB-4B8E-8413-B5DF913A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1EB4-4E3F-466C-BF2D-138894A0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DDC0-A336-4A93-91E8-527E1EC1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E57-4DAA-4B52-974F-25778BD5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BA09-FE85-4563-B739-D4B3C726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CD25-00EE-4AED-B8E1-47C74F7D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B7D0-D219-47F3-B049-7FB1731A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616B-D781-4522-9D1B-CAFB732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14BD-3C14-4F7F-AC2E-BD4B087C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4279-7EAE-4AA0-AC03-C1CC1BB5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06CE2-DCF8-4182-A5F9-CEFEB8F1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30FD3-DA7A-4806-923C-29D47E1A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5D18A-9A54-4AA2-8B2B-A7970B6D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95BF-8995-4629-A2BD-0AE9A082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5D1-B1FB-45A7-A366-3FADD475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7261-9320-4F6A-820A-C37C1A64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1FA5-4AD2-4738-8ECC-36627F30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4BF3-5E72-4C2C-9DAB-744A3836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4390-BB24-4C1C-9E09-9DACD21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E3550-8C20-407E-94AF-B1C969AD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5913-7004-4381-AB2E-45EDF2AB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67A3-E433-4C54-81BC-2100EFCC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2C66-39A9-48FA-87A0-C77AEB75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8C18-5FDA-43DE-A87D-0A270314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74E66-CAF6-4B3A-B07F-AE9FD759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D7B-D7F1-4F49-9D4E-2AC3E693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FD9F-32B7-4101-8302-29C2B178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F6B2-E4FA-42C9-A8D1-5380B338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2002-5A56-4315-8043-6EF1AEAC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9695-4900-46A5-B5C7-7886DAE0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CF8B4-37BB-4628-95C0-619C60BA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B9AE-2740-415E-A266-598B7D6E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FFDE8-D9D5-4ABB-B965-E7DDF670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ADDC5-FCBE-4F84-8740-4CB0CEFF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81CB-F86E-4731-B8DB-8A19B086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E351-AC10-4CAF-B4A3-26C04EC6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E1B-5E7F-4149-AE8D-72F7AB20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2606-51A1-4811-B4B2-E14DF878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AF4D4-6AD8-4B67-BD97-0929A73F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BA5DF-0573-4EB2-B27F-30FC0B64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85F76-234F-4507-89A9-EF694AD8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0B1AC-1753-4B1F-A19A-39A8FDC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A0FB0-D9F5-4947-9168-930F499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E52AB-486D-4C06-99B6-7C4293F8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66E6B-B5E5-46CF-9FC7-358D2542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8C5C-C277-4664-BE10-91B5C4B5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CEC1B-355E-4E14-8665-DD069CB5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E3B-C48F-4085-B4AB-006EA719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D235D-856A-4333-BFC5-B44079F6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41562-9110-480A-86AE-1FF337DD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9954-3C7D-4F38-A671-9E15CFE5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7AE3B-6AD7-4662-9286-643D5BA9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B078A-3C7D-4B82-AB09-BFD34A0F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9D9A-D0D4-4021-9F94-471A436A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DD6FD-333A-4320-A6E1-1A01A59F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3C0BD-F05F-46BA-8B51-DBAC44F7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C44E-A197-4251-AD42-4B4D09F5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B9E3B-3D10-4F4E-81B8-1808EAB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DB5-C849-43F4-8F11-B248B17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EECC-6B60-4F77-B186-3E29AFF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1BC2D-DB67-48C2-A707-DE27CEEA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16902-2687-4E5C-80F1-81D8DB8C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A9BD8-3726-4329-8FEB-D45D6BC4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03CD-5C2D-4F23-A601-F522175A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4568B-26F9-4EB3-9178-C6847075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17334-94C3-4075-851F-6E21D30E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C130E-7264-43A6-BAF0-1BE76351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8F1D2-BB1F-4D45-A4BD-C65C038E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15E6C-E9E0-4A3D-B636-790AE03B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67A-CA25-411B-8F09-7D2CBC85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0B4C-1257-46BC-BC38-5C02071B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1EDB4-3C1C-4B92-AE59-19216E96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33AEA-482C-4C51-A1BB-D338BF7E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7ED28-2D0F-4FDC-A662-D55E166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7C5E0-291D-4A45-BD75-54CB70C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C2D28-AA19-480C-94D9-DEDD6E6D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B0AC4-6DB1-4EE6-9C72-CFCB965C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F0CAB-08B9-4286-AB40-3A2CDF2B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E015F-1E74-48F7-9207-44A2340E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305AD-60E5-410B-95FE-93EE893E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AFBC-3555-4E81-9650-913091D50D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9068-B020-497D-B5AF-7E53D783C6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17D2-9B17-4425-BE80-F509B85177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CADA-3013-4CBB-98D8-25C5BEA6CF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F8B7-9783-4AD8-A00B-2496AA556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D368-CC89-49B6-B028-7014E09DC9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1EF-DEE4-4C55-8B5B-0434FD59CB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9B78-1323-4AC6-AD20-A287E4CDC7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D034-A784-47A8-9BE9-70E376E53A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4B52-AFE6-412C-B1A8-4D2FC405F9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5FCD-29DB-4E02-8557-EE2A8A4A1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CC79-8555-42A1-98C3-59A0061ADD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28440" y="4266720"/>
            <a:ext cx="6095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隶书"/>
              </a:rPr>
              <a:t>2016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学习教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学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党章党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明确基本标准、树立行为规范，逐条逐句通读党章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认真学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准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党内法规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党的历史、革命先辈和先进典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周永康、薄熙来、徐才厚、郭伯雄、令计划等违纪违法案件中汲取教训，守住为人、做事的基准和底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图片 740355" descr="EDZ(NR)%K}BBK6_G5]W{WOT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系列讲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习近平总书记关于改革发展稳定、内政外交国防、治党治国治军的重要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以习近平同志为总书记的党中央治国理政新理念新思想新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出，学习习近平总书记系列重要讲话要同学习马克思列宁主义、毛泽东思想、邓小平理论、“三个代表”重要思想、科学发展观结合起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区别普通党员和党员领导干部，确定学习的重点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图片 741379" descr="$EXGR{$S5~8PP%AG9HE4~15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“四讲四有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讲政治、有信念，讲规矩、有纪律，讲道德、有品行，讲奉献、有作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党员强化政治意识，保持政治本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党中央看齐，向党的理论和路线方针政策看齐，做政治上的明白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密切联系群众，全心全意为人民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强党性锻炼和道德修养，心存敬畏、手握戒尺，廉洁从政、从严治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干事创业、开拓进取的精气神，平常时候看得出来，关键时刻冲得上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742403" descr="(7L7IWA$U}8_XACY`}A[$R3"/>
          <p:cNvPicPr/>
          <p:nvPr/>
        </p:nvPicPr>
        <p:blipFill>
          <a:blip r:embed="rId1"/>
          <a:stretch/>
        </p:blipFill>
        <p:spPr>
          <a:xfrm>
            <a:off x="609480" y="1981080"/>
            <a:ext cx="7696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图片 743427" descr="ZQAJN)(R_)CR`WY}VZ4_8R6"/>
          <p:cNvPicPr/>
          <p:nvPr/>
        </p:nvPicPr>
        <p:blipFill>
          <a:blip r:embed="rId1"/>
          <a:stretch/>
        </p:blipFill>
        <p:spPr>
          <a:xfrm>
            <a:off x="228600" y="68580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主要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围绕专题学习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个人自学与集中学习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照“三会一课”制度，党小组要定期组织党员集中学习；不设党小组的，以党支部为单位集中学习。党支部每季度召开一次全体党员会议，每次围绕一个专题组织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学习讨论要做到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能否”，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坚守共产党人信仰信念宗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正确处理公与私、义与利、个人与组织、个人与群众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努力追求高尚道德、带头践行社会主义核心价值观、保持积极健康生活方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自觉做到党规党纪面前知敬畏守规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保持良好精神状态、积极为党的事业担当作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744451" descr="OC6W{SSNOBM)CCW4@27MEYJ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248760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744452" descr="$REX]PRWTI`L8VZ_(Z]][SY"/>
          <p:cNvPicPr/>
          <p:nvPr/>
        </p:nvPicPr>
        <p:blipFill>
          <a:blip r:embed="rId2"/>
          <a:stretch/>
        </p:blipFill>
        <p:spPr>
          <a:xfrm>
            <a:off x="4267080" y="2514600"/>
            <a:ext cx="4876920" cy="434340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744453" descr="8{@}NJ`OERKSM~JKE17W8FM"/>
          <p:cNvPicPr/>
          <p:nvPr/>
        </p:nvPicPr>
        <p:blipFill>
          <a:blip r:embed="rId3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创新方式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创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员领导干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在所在党支部讲党课，到农村、社区、企业、学校等基层单位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校教师、讲师团成员、先进模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基层一线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鼓励和指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层党组织书记、普通党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实际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重运用身边事例、现身说法，强化互动交流、答疑释惑，增强党课的吸引力和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出，“七一”前后，党支部要结合开展纪念建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年活动，集中安排一次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开展背景及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召开党支部专题组织生活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底前，党支部召开专题组织生活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部班子及其成员对照职能职责，进行党性分析，查摆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向党员和群众征求意见，开展批评和自我批评，针对突出问题和薄弱环节提出整改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织全体党员对支部班子的工作、作风等进行评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图片 745475" descr="[OU8P35CW7HZ{OV%MA$KCFV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展民主评议党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党支部为单位召开全体党员会议，组织党员开展民主评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照党员标准，按照个人自评、党员互评、民主测评、组织评定的程序进行评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民主评议，支部班子成员要与每名党员谈心谈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支部综合民主评议情况和党员日常表现确定评议等次，对优秀党员予以表扬，对有不合格表现的党员，区别情况给予组织处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备注：党员人数较多的党支部，个人自评和党员互评可分党小组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图片 746499" descr="J0M_LVA@XZP{}(}PKDW}W}Q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足岗位作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不同群体党员实际情况，提出党员发挥作用的具体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村、社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设岗定责和承诺践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有企业和非公有制企业、社会组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示范岗和党员责任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窗口单位和服务行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挂牌上岗、亮明身份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机关事业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促进党员模范履行岗位职责，落实党员到社区报到、直接联系服务群众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学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要求党员增强党的意识，自觉爱党护党为党，敬业修德，奉献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7475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图片 747524" descr="T58JP2)SIRYBB26W{EB(JWA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747525" descr="VUOOPZ8NFH]{RBZV}7L]R{0"/>
          <p:cNvPicPr/>
          <p:nvPr/>
        </p:nvPicPr>
        <p:blipFill>
          <a:blip r:embed="rId2"/>
          <a:stretch/>
        </p:blipFill>
        <p:spPr>
          <a:xfrm>
            <a:off x="4495680" y="228600"/>
            <a:ext cx="4648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领导机关领导干部作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党员领导干部要走在前面、深学一层，严格执行双重组织生活制度，以普通党员身份参加所在支部的组织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召开党委（党组）会，专题学习党章党规和习近平总书记系列重要讲话；要以党委（党组）中心组等形式组织集中研讨，深化学习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民主生活会要以“两学一做”为主题，领导班子和领导干部把自己摆进去，查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图片 748547" descr="TH215NQX8}51(}{ZTOJJA(U"/>
          <p:cNvPicPr/>
          <p:nvPr/>
        </p:nvPicPr>
        <p:blipFill>
          <a:blip r:embed="rId1"/>
          <a:stretch/>
        </p:blipFill>
        <p:spPr>
          <a:xfrm>
            <a:off x="228600" y="762120"/>
            <a:ext cx="8763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组织领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学习教育在中央政治局常委会领导下进行，由中央组织部牵头组织实施，中央纪委机关、中央宣传部、中央党校配合做好相关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层层落实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级党委（党组）要把开展“两学一做”学习教育作为一项重大政治任务，尽好责、抓到位、见实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（自治区、直辖市）和部门（系统）党委（党组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结合实际作出部署安排，加强具体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县级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制定具体实施方案，保障工作力量，加强督促指导把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层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进行全覆盖、全过程现场指导，帮助党支部制定学习教育计划，派员参加党支部各项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级党组织书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承担起主体责任，要管好干部、带好班子，管好党员、带好队伍，从严从实抓好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强化组织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大整顿软弱涣散基层党组织工作力度，配齐配强班子特别是带头人，健全工作制度，确保有人抓、有人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党员组织关系集中排查，摸清“口袋”党员、长期与党组织失去联系党员情况，理顺党员组织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对基层党组织书记、组织委员、组织员等党务骨干普遍进行培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重分类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层党委要根据不同特点，对学习教育内容安排等提出具体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公有制企业和社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因企、因岗制宜，灵活安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党员人数少、党员流动性强的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利用开放式组织生活等方式组织党员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动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按照流入地为主的原则，把流动党员编入一个支部，就近就便参加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退休干部职工党员及年老体弱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既体现从严要求又考虑实际，以适当方式组织他们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749571" descr="2Z]N`2_9(3$4F`QI@61RV2I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发挥媒体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共产党员网、手机报、电视栏目、微信易信和远程教育平台等，开发制作学习资源，推送学习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党员利用网络自主学习、互动交流，扩大学习教育覆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各类媒体，宣传做法和成效，加强舆论引导，营造良好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华文琥珀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总体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图片 737283" descr="QP9EM[J]~5)GAQKU]1S~[J4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学一做”针对的现实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，着力解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问题：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理想信念模糊动摇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党的意识淡化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宗旨观念淡薄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精神不振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道德行为不端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矩形 73933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739332" descr="_Q`7)0AUJ}150@O9}P8Z0QL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73830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73830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73830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7383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7383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738312"/>
          <p:cNvSpPr/>
          <p:nvPr/>
        </p:nvSpPr>
        <p:spPr>
          <a:xfrm>
            <a:off x="7680240" y="4479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383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图片 738314" descr="UUAILH~QH02IX`)5OM73B3E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到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坚持”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正面教育为主，用科学理论武装头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学用结合，知行合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问题导向，注重实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领导带头，以上率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从实际出发，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0T06:39:47Z</dcterms:created>
  <dc:creator/>
  <dc:description/>
  <dc:language>en-US</dc:language>
  <cp:lastModifiedBy>admin</cp:lastModifiedBy>
  <dcterms:modified xsi:type="dcterms:W3CDTF">2017-03-20T06:41:34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  <property fmtid="{D5CDD505-2E9C-101B-9397-08002B2CF9AE}" pid="3" name="Version">
    <vt:r8>1</vt:r8>
  </property>
</Properties>
</file>