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948-F584-4491-86FA-EB148E12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A3B-0F2D-4299-A085-DF0C191D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EF50B-6B60-49D4-B992-4D414BE2FFA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DB648-C202-4CF7-862C-562494F7083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447E1-2CDC-465B-9330-7169FE46C30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4DAE4-B6A1-4205-86FE-113C84786F1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BBA6D-E9A8-4A78-B8F2-1AF638319F9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4A5D8-5E9A-4A8C-BF85-A34C7969BD2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DB46B-171A-4DAF-962B-2FF2DA03F20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090E6-14CD-48D9-8C4D-B82CB45E5F9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3493E-D2BC-4E63-9172-E5023049698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86F312-99C0-496F-90B6-6AB57DC84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AE3-8F4C-434D-B12D-119FFF4F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F473E5-EBB7-41FF-979E-2C19D1CA2DE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D607F0-280D-44E6-80A8-6EFDBDDDF0D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8DF0F-3EC8-444D-9C58-37567CC51F4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CEB11-C953-4888-85A3-4F88BC8A74D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ABF44-3D34-4080-AEB2-A906D0A6068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A44C1-4EBF-4916-B736-13806305A00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75A1A-4248-4B4E-86CB-4AE8713E74D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83AA6-CA26-4556-BF6A-C4F51F1E182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8857C7-271C-41AB-B244-70831F98299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4250F6-8435-4BCA-B2D0-9C0072D8F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AE3-057F-4C4F-8EC1-91A12ABE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0C549-9D2E-491F-8029-D88FA378A6B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070907-6D85-4834-95E2-5EB1E90DEDA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792F7C-E823-49C5-BD9B-F6087BF4EF8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BEB014-CA15-4069-91BE-F89CA5C30FA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31C3E5-9C3B-445F-A73B-D97F309F8DD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A88FD5-D3DA-41C4-8847-A10E2E9A530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3858A6-BA60-4186-9AF8-61CEC1797F9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7B00E4-6B17-4FF6-A46D-9D8B85CEACD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B150EF-6B2D-4E23-A23F-2BA057FBEE9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552FC9-459E-4649-9486-0C775D161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38745-3A63-4C68-BAA2-8968DDC08EE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D6B1D2-CAD1-46C5-963B-AA7248E80EA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BD33DD-17E6-4105-A6BD-7FF4483CC4E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355AD5-715B-49E3-8CA9-DECF8327C7E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36930-0990-4BF7-A681-081BC85575A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79BB8-9724-4BD3-B816-4850429F3A5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3A52B-1BF0-4310-BDA1-5C03F1483EA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D9E59-A63A-4DEA-B8EF-B05F6A9A445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202BB-B353-4EFB-A02E-251975F4429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FE063-956F-42B6-A4F1-BD6EB1E1AF1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49EB3-1613-4EC8-9AF1-C5EC50297C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BE581-EAE3-4FC0-A6DC-C01A7E9D5D6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C8E7D-2071-49E2-B005-878DF2BB772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9DE16-E0F3-4869-A595-D62318B9AB4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F1E4A-BABA-43C6-AE5E-CA805973AEA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CBEA7-2FBA-402D-AED7-1E6E1738916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20C1D-1CD3-4352-8432-C8455F92EC2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0682C-9472-4F80-9736-A9DD1E1B372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C7E80-BA9F-414C-A53E-863895F0B70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6EDB6-FED5-4776-9612-41CA46B715E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56DE0-5E0B-45EA-B126-F3E0F911E54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66054-4F19-4171-9123-5A62B39C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C89DD-E1DB-4B90-AAFE-53474F7B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38C70-BE44-4D63-955A-7A2C9CE7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D9113-F1C9-46D5-B14B-8AE8FE71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CE924-0E58-48DC-B628-38F1AE99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8AD3F-DE21-47EF-854E-BAEEA8D3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5F20C-164D-49C1-AAF6-77320B20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96085-9AB9-4573-AA19-8BEF808A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BCECA-3E20-4596-A1FB-49CA09B7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27BC9-241C-4DB8-A529-4CB972C7DD8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5AD0C-5DCD-46B7-B33C-1B5B86E6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A55F3-7093-444B-A076-B720401E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E490B-2FAE-4920-A388-382624FE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455-53D6-4C9F-9664-EB175D5D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6AAD2-9270-409C-82E1-183B967D646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BCD8D5-BB43-45C3-8F73-9066803DDD4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F72D57-5452-48F0-961D-364D57C982F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A7AE90-9ED0-473C-A886-9301A4F7DBE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A208A4-E1FF-4AD1-9F23-427182C78A7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3F9FC1-5161-499A-BDD1-58AB09644C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E71F3-1DD6-4C85-98EC-ED6DF29B6B4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668FF7-0AF4-4926-808A-D744F30C97E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CEAEF5-9E3B-42A3-A084-60429242520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BBB242-1ED3-4383-9720-1E6526E6C65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A87488-3B91-4886-AA9E-84E57949173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35260C-D5E9-4010-8D49-CABFA5B820A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479D71-6A9B-41A6-BA88-895FDAC47BC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46809A-94EC-410B-9269-C31F7B068F1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A4467-B6F3-41A4-BB97-BF30BDFA508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3BE6D-0742-4871-A4AC-9668099ACEE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03ACE-5E68-497D-9E01-FE0E260408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75C54-3B55-4970-A42C-5F68EE5A19C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DD9BC-8F54-4C90-A851-2A5C0607903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CDBC5-D512-40AC-9CAA-8A69801C7D9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19DE9-15D3-44FE-8C05-647917C05BF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F6B82-C350-4D60-9A8A-7685B4DEB60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B96B9-57D9-42DF-9C81-A7EBE287C01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58856-1604-4B6A-9ADB-C6A4E007F23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16E39-F9AE-44AF-9932-BBBB5A0609F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B3B83-0BBC-4AEF-A826-DEDF93FC6BF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E9FEC-1740-4CC8-AAE1-D999EB25897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BED79-917B-40FA-9C14-45D580919BB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59E2C-EDEE-4146-82E2-3B36F49C0A1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5EE86-E32E-451A-98A9-1C8F333F746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27B88-C745-4356-AD39-12F3013F5ED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E6F0C-6571-4C83-BEFB-E1EC420C417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D27C2-75F7-46B6-93D7-9C543E87B0E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AEED9-E804-4258-BDFE-0DA59B9F3DD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1D299-7051-473F-AC1C-5731A0FACDE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D5F36-980B-4890-A565-8E4077A6BC3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5C38A-ADFF-41A5-9C1C-BC7FF449D88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47763-BF5D-44D8-8C61-E3BB117225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FD8297-F9AB-4C26-986B-DA737C323F6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56AC2-63C2-496D-999B-588381425FA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6AFA7-265C-494B-9206-C2DACE39BD3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59B39-16D9-4AB0-A56D-384BDE84293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3E7D4B-8D37-4D08-925E-B192036D66E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D468BD-F2B4-4C89-9D7F-CB114E60659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4C73F8-9565-4085-B68A-1408233D274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BE2602-97AD-4F93-8DFA-90B9FE41268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E88871-CC6E-4097-8C66-769B1769310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DD888D-4AA9-45C6-9FE4-D6A4F44684F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2F401B-183D-4F90-A9B4-448006B7CC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A0C350-80C1-4BD5-82BE-67830575DB0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93DEB2-A2D3-4024-97AF-47B9491E1F2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BE0622-1F47-4FE1-BAA2-DFE40EC295D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1254FE-7992-4215-9C68-9A41320B8A6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31A36E-14F2-49C6-AFE3-FF634DAEF6D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A75F9E-98AC-48AE-B955-B0B461C1BC9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A3209-2A02-4DB6-9004-DD62971879C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53816-84F2-46D1-9537-1D7A03DE45C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9B7A6-2D09-480C-8029-22017D33AA8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2A10F-D514-4341-9B0B-01ED53C14C2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5CA041-2796-4CC5-AB04-50D8D8230B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3B0AC6-96A4-4BB5-BCB1-50FDFC48C4F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FF6C0-02FC-472A-8160-FDB22704623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DABA5-3B07-4BE4-B629-09673D34A7E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8D8C8-9CE3-4D92-92A8-36538283948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546F4E-15A1-44A4-AFB2-6B02A0DD7BD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F1986-C564-4C0D-94B2-A6F58AA2014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1E45E-F32A-41F8-92AF-D1C06EEB24B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82EB1-F56E-49B9-AA46-A267B6727DC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C9C71-2E01-47E3-A92A-FE050C17643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D0546-B41D-4D68-AFD5-B8B6479FDE7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BE91F-F594-4D52-9959-51C4ACE588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9E0FD4-9C24-4CA4-8BF8-7142E1FD594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8F652-C139-49E4-89C3-5AFBB65881F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B2219-DED5-42D7-8772-7A4C3C9D188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822AC-B2B2-42B8-A48D-8176325B95D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A8C81-98A4-459B-B305-A9885AFA805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69A02-2DB0-4CD1-99D9-6090891CF63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77149-5306-4CDA-9F6C-7D8B9BB130F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E44AC-649D-4B2A-B5F2-3CB462350E3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35526-6B25-4CE7-921E-896B3359A84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3FE9B-C889-4781-B0EF-AB77A120FFE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04483F-CB12-4F42-A0DF-5BAEC65275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3918E-FF9C-4E21-8F5C-4CAFCDF0F97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0492D6-FE38-430E-88A2-10A6ECC0D5A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D37167-919A-4C96-A590-1D78C95BD77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59B0FE-FD92-483A-B3A8-B780E53ADDF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537A23-10AE-4DDD-B78B-E12148A253B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4FB981-7CA6-4CF4-86AA-F6758229B23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8D6A73-8133-4C5E-9A6F-9AE0C763C90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D4D7B4-6BE3-488F-A608-97FE22D847E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A3CE29-3B4F-44BC-BAD6-74007218A56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5C2D64-B9AB-4626-B844-D42C1A383EE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F5E8EB-5315-446C-98BE-7AAA713E95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98A-1AD7-4011-A88C-74BBF69F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974446-36B9-40B0-A638-1F61099B0DD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D05767-CB0E-422D-B9F9-4E418CCE8BF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A313F2-3995-4476-AB41-F313D78E28E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0DECC-5317-4CF2-8DC7-7206BE7CBCCF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4B8F6-C556-404C-99FF-676D92D68D15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54E800-0714-4586-8B81-8C4D9DE1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3CD893-2215-4BE2-9B3E-B18938EC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264555-DE2B-40AB-AC9E-C30FD3CE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66CCEB-B5D5-4145-B343-61688D766584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392D6B-7170-4169-9B38-5BDCD8B7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E7B2FD-D59B-49F9-920B-15FBFAA6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C465DB-34F6-4722-9D94-47A9D813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9F27A2-1DAD-496E-9086-8A74B2F3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981100-B1B1-44DA-851E-08D4A69C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46A04A-076C-4ADB-A8D1-1741BFDC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5BCDC2-B8F8-4E45-AD5E-4F3290E8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53188C-8F16-48AB-AF03-C660F871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3748D8-8CB7-4E00-8494-2D0CA798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8A62E7-6E74-4FB2-9DA4-B6B49F794E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82E3DC-D640-4E30-BC33-AFECE7417D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016-D9B9-4B00-890E-E390FFD1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FBEB-CD68-4110-9820-3075B5FDD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744-7F77-4C31-84E5-E728FACC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1EF16-24DA-4548-8D20-B902B24824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4EED-EE89-43B8-9131-6DFC0450001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4D1B-D0E5-47BF-AA4B-C0095EC76C8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2DDDC-E66B-4427-9B60-6CBB8E611E2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7A189-BA49-4CDA-ADCF-5E464DB2FB3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41578-D86A-49A0-A461-604D2A4853C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4008-EB2E-4C86-B927-BB3558FCE88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CF371-BF0C-455B-8F2F-0B0A38EE01D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38657-1F8E-4D38-9434-AA7C0C6E64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B6F0F-1DF7-4821-9BEB-15B8AB39C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075-F52E-4AA5-8478-9F818C9E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AF1B0-DC12-4F9A-A432-DE5412E02C1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507CD-EF46-4801-8D41-A6207780BA7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13EEA-2789-466B-9951-AB9955AB9B9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25809-BEB1-454B-B160-219CBE82CD5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23D2A4-D5F8-4BD4-8E3E-AC47278FD0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3FBCA-693D-40B3-BC02-7FEA8868C26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D04FDD-F331-4884-9BE9-597269D42D2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1ABB37-C0E6-42B0-9501-7BDD19714BA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72E7C-2E3D-4FDD-8E1C-4BB23D3D521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6EBD5F-08D6-4A27-B330-003284571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677-5537-4EC6-9F82-2BB8397D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96B923-B104-4519-B625-69F91444AFE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1B786-E092-42A6-A05E-76DB0BD69D0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04572-2771-49D2-BFBF-E1EB34418B6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4F6-D5CD-4D38-BD19-BDCF3BC1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DB4216-7832-4B05-8218-516055D6312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917DEC-3042-47C2-99DE-EC96D126BD3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D328F1-23BA-4351-85E5-B62DC17ACF1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9D9DEC-F932-4877-8181-CB955A389B1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6F989A-1345-4539-ACF3-A938041E8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5D8-CDBB-47DD-94FD-4CBC6B5D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272BE5-3ABA-47E3-8832-A9AAB869AE6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C2482C-4ADC-406E-88D7-7D882624346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E84213-D249-4F00-8799-209CAB3BAD3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8C7B72-6F77-4078-A2F8-9594078D0CE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9D7A34-E169-40D5-9208-896E5B6058B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AC8DBA-6D2F-4CAE-B362-C04B3B515C4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211D1C-D812-4B53-A06D-AB78A388B10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65A70-9722-4C28-97FF-BBB0EEB0489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63712-D223-43D6-8D8C-43C7DF8AFDD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7C823-ACCF-4870-A3FA-5631C8649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F801-96C7-4526-BE54-DCF9BDF8FE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5415-1EC3-4319-996C-2513B1A553A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93A9-D7EE-485A-A763-8030B3669B8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6C87-1F89-4A3C-B26B-E5461111D1C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CD56-D89E-4881-8C1E-AF1F366BE32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AFBE-2081-4BDD-AD03-2D88F8D9E5A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958A-4F30-4FB2-A68D-DAE7AB2B792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7C38-4956-4D1B-B34A-026DFAB85C2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9B2A-B79A-4A02-9C6F-6FD5AF2DF91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BB82-96D0-494D-8A88-EA530667434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C36B-CE8C-4E0F-A7E6-1A918114F52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5FA4-63F3-40CD-94C5-6F063DDB74A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12A5-9A9C-44C2-AB19-E76D9C3321B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EB31-5296-4BA2-868C-91BAABAB4BC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6318-FA71-4DB1-A416-35CD4874AA6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4ADF-7F95-4F84-BF4B-E2FA1F0CDC5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C711-20D3-45EF-AEB6-34BC3DB250B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39DC-3F5E-4437-BEDE-1C6503BB4AB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AF20-DB3F-40DE-9C6D-557F65F7137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642960" y="46512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交通安全不是问题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问题是解决的方案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TextBox 12"/>
          <p:cNvSpPr/>
          <p:nvPr/>
        </p:nvSpPr>
        <p:spPr>
          <a:xfrm>
            <a:off x="4143240" y="17859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们有解决的方案啦！！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Box 17"/>
          <p:cNvSpPr/>
          <p:nvPr/>
        </p:nvSpPr>
        <p:spPr>
          <a:xfrm>
            <a:off x="142920" y="28584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1515960" y="2243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广西自治区南宁市卫国小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Box 1"/>
          <p:cNvSpPr/>
          <p:nvPr/>
        </p:nvSpPr>
        <p:spPr>
          <a:xfrm>
            <a:off x="1187280" y="80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卷首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矩形​​ 4"/>
          <p:cNvSpPr/>
          <p:nvPr/>
        </p:nvSpPr>
        <p:spPr>
          <a:xfrm>
            <a:off x="969840" y="1515960"/>
            <a:ext cx="41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Box 9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Box 2"/>
          <p:cNvSpPr/>
          <p:nvPr/>
        </p:nvSpPr>
        <p:spPr>
          <a:xfrm>
            <a:off x="1510200" y="160956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 action="ppaction://hlinksldjump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3"/>
          <p:cNvSpPr/>
          <p:nvPr/>
        </p:nvSpPr>
        <p:spPr>
          <a:xfrm>
            <a:off x="3311640" y="2395440"/>
            <a:ext cx="32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 action="ppaction://hlinksldjump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4"/>
          <p:cNvSpPr/>
          <p:nvPr/>
        </p:nvSpPr>
        <p:spPr>
          <a:xfrm>
            <a:off x="1071720" y="3214800"/>
            <a:ext cx="428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 action="ppaction://hlinksldjump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5"/>
          <p:cNvSpPr/>
          <p:nvPr/>
        </p:nvSpPr>
        <p:spPr>
          <a:xfrm>
            <a:off x="1114920" y="80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TextBox 6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TextBox 7"/>
          <p:cNvSpPr/>
          <p:nvPr/>
        </p:nvSpPr>
        <p:spPr>
          <a:xfrm>
            <a:off x="1073160" y="4029120"/>
            <a:ext cx="32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 action="ppaction://hlinksldjump"/>
              </a:rPr>
              <a:t>四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奇思妙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Picture 1" descr="D:\卫国小学\map01.jpg"/>
          <p:cNvPicPr/>
          <p:nvPr/>
        </p:nvPicPr>
        <p:blipFill>
          <a:blip r:embed="rId2"/>
          <a:srcRect l="2122" t="1870" r="907" b="-399"/>
          <a:stretch/>
        </p:blipFill>
        <p:spPr>
          <a:xfrm>
            <a:off x="428760" y="1428840"/>
            <a:ext cx="5286240" cy="4000320"/>
          </a:xfrm>
          <a:prstGeom prst="rect">
            <a:avLst/>
          </a:prstGeom>
          <a:ln w="0">
            <a:noFill/>
          </a:ln>
        </p:spPr>
      </p:pic>
      <p:sp>
        <p:nvSpPr>
          <p:cNvPr id="1197" name="矩形​​ 7"/>
          <p:cNvSpPr/>
          <p:nvPr/>
        </p:nvSpPr>
        <p:spPr>
          <a:xfrm>
            <a:off x="5857920" y="1359000"/>
            <a:ext cx="2500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中国广西南宁市卫国小学位于旧城商业区内，是服务于华强社区的一所学校。学校共有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802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名师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学区占地面积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2.1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平方公里，学区内人口约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3.7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万人，人口密度为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84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方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Box 8"/>
          <p:cNvSpPr/>
          <p:nvPr/>
        </p:nvSpPr>
        <p:spPr>
          <a:xfrm>
            <a:off x="167256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我们的学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Box 9"/>
          <p:cNvSpPr/>
          <p:nvPr/>
        </p:nvSpPr>
        <p:spPr>
          <a:xfrm>
            <a:off x="115704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Box 10"/>
          <p:cNvSpPr/>
          <p:nvPr/>
        </p:nvSpPr>
        <p:spPr>
          <a:xfrm>
            <a:off x="285840" y="-684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直接连接符 14"/>
          <p:cNvSpPr/>
          <p:nvPr/>
        </p:nvSpPr>
        <p:spPr>
          <a:xfrm>
            <a:off x="785880" y="40719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任意多边形 22"/>
          <p:cNvSpPr/>
          <p:nvPr/>
        </p:nvSpPr>
        <p:spPr>
          <a:xfrm>
            <a:off x="857160" y="2590920"/>
            <a:ext cx="4591080" cy="2554200"/>
          </a:xfrm>
          <a:custGeom>
            <a:avLst/>
            <a:gdLst/>
            <a:ahLst/>
            <a:rect l="l" t="t" r="r" b="b"/>
            <a:pathLst>
              <a:path w="4690534" h="2626370">
                <a:moveTo>
                  <a:pt x="0" y="1473200"/>
                </a:moveTo>
                <a:cubicBezTo>
                  <a:pt x="38021" y="1435179"/>
                  <a:pt x="14042" y="1451585"/>
                  <a:pt x="76200" y="1430866"/>
                </a:cubicBezTo>
                <a:lnTo>
                  <a:pt x="101600" y="1422400"/>
                </a:lnTo>
                <a:cubicBezTo>
                  <a:pt x="141852" y="1395564"/>
                  <a:pt x="117345" y="1408685"/>
                  <a:pt x="177800" y="1388533"/>
                </a:cubicBezTo>
                <a:lnTo>
                  <a:pt x="203200" y="1380066"/>
                </a:lnTo>
                <a:cubicBezTo>
                  <a:pt x="341075" y="1334109"/>
                  <a:pt x="219794" y="1371810"/>
                  <a:pt x="584200" y="1363133"/>
                </a:cubicBezTo>
                <a:cubicBezTo>
                  <a:pt x="611028" y="1354190"/>
                  <a:pt x="611553" y="1356490"/>
                  <a:pt x="635000" y="1337733"/>
                </a:cubicBezTo>
                <a:cubicBezTo>
                  <a:pt x="641233" y="1332746"/>
                  <a:pt x="645089" y="1324907"/>
                  <a:pt x="651934" y="1320800"/>
                </a:cubicBezTo>
                <a:cubicBezTo>
                  <a:pt x="659587" y="1316208"/>
                  <a:pt x="669352" y="1316324"/>
                  <a:pt x="677334" y="1312333"/>
                </a:cubicBezTo>
                <a:cubicBezTo>
                  <a:pt x="686435" y="1307782"/>
                  <a:pt x="693435" y="1299533"/>
                  <a:pt x="702734" y="1295400"/>
                </a:cubicBezTo>
                <a:cubicBezTo>
                  <a:pt x="719045" y="1288151"/>
                  <a:pt x="736601" y="1284111"/>
                  <a:pt x="753534" y="1278466"/>
                </a:cubicBezTo>
                <a:cubicBezTo>
                  <a:pt x="772841" y="1272030"/>
                  <a:pt x="787401" y="1255889"/>
                  <a:pt x="804334" y="1244600"/>
                </a:cubicBezTo>
                <a:cubicBezTo>
                  <a:pt x="824138" y="1231398"/>
                  <a:pt x="822351" y="1220379"/>
                  <a:pt x="838200" y="1202266"/>
                </a:cubicBezTo>
                <a:cubicBezTo>
                  <a:pt x="899134" y="1132628"/>
                  <a:pt x="858114" y="1181257"/>
                  <a:pt x="905934" y="1143000"/>
                </a:cubicBezTo>
                <a:cubicBezTo>
                  <a:pt x="947825" y="1109487"/>
                  <a:pt x="895796" y="1144670"/>
                  <a:pt x="939800" y="1100666"/>
                </a:cubicBezTo>
                <a:cubicBezTo>
                  <a:pt x="946995" y="1093471"/>
                  <a:pt x="956733" y="1089377"/>
                  <a:pt x="965200" y="1083733"/>
                </a:cubicBezTo>
                <a:cubicBezTo>
                  <a:pt x="980103" y="1039026"/>
                  <a:pt x="968716" y="1065760"/>
                  <a:pt x="1007534" y="1007533"/>
                </a:cubicBezTo>
                <a:cubicBezTo>
                  <a:pt x="1013178" y="999066"/>
                  <a:pt x="1016000" y="987777"/>
                  <a:pt x="1024467" y="982133"/>
                </a:cubicBezTo>
                <a:cubicBezTo>
                  <a:pt x="1032934" y="976489"/>
                  <a:pt x="1041921" y="971557"/>
                  <a:pt x="1049867" y="965200"/>
                </a:cubicBezTo>
                <a:cubicBezTo>
                  <a:pt x="1091756" y="931688"/>
                  <a:pt x="1039731" y="966868"/>
                  <a:pt x="1083734" y="922866"/>
                </a:cubicBezTo>
                <a:cubicBezTo>
                  <a:pt x="1090929" y="915671"/>
                  <a:pt x="1100667" y="911577"/>
                  <a:pt x="1109134" y="905933"/>
                </a:cubicBezTo>
                <a:lnTo>
                  <a:pt x="1143000" y="855133"/>
                </a:lnTo>
                <a:cubicBezTo>
                  <a:pt x="1152901" y="840281"/>
                  <a:pt x="1154290" y="821266"/>
                  <a:pt x="1159934" y="804333"/>
                </a:cubicBezTo>
                <a:cubicBezTo>
                  <a:pt x="1162756" y="795866"/>
                  <a:pt x="1162089" y="785244"/>
                  <a:pt x="1168400" y="778933"/>
                </a:cubicBezTo>
                <a:cubicBezTo>
                  <a:pt x="1209462" y="737871"/>
                  <a:pt x="1188983" y="753922"/>
                  <a:pt x="1227667" y="728133"/>
                </a:cubicBezTo>
                <a:cubicBezTo>
                  <a:pt x="1279785" y="649955"/>
                  <a:pt x="1213277" y="746121"/>
                  <a:pt x="1261534" y="685800"/>
                </a:cubicBezTo>
                <a:cubicBezTo>
                  <a:pt x="1267891" y="677854"/>
                  <a:pt x="1272110" y="668346"/>
                  <a:pt x="1278467" y="660400"/>
                </a:cubicBezTo>
                <a:cubicBezTo>
                  <a:pt x="1283454" y="654167"/>
                  <a:pt x="1290413" y="649699"/>
                  <a:pt x="1295400" y="643466"/>
                </a:cubicBezTo>
                <a:cubicBezTo>
                  <a:pt x="1301757" y="635520"/>
                  <a:pt x="1304388" y="624423"/>
                  <a:pt x="1312334" y="618066"/>
                </a:cubicBezTo>
                <a:cubicBezTo>
                  <a:pt x="1319303" y="612491"/>
                  <a:pt x="1329267" y="612422"/>
                  <a:pt x="1337734" y="609600"/>
                </a:cubicBezTo>
                <a:cubicBezTo>
                  <a:pt x="1343378" y="601133"/>
                  <a:pt x="1350116" y="593301"/>
                  <a:pt x="1354667" y="584200"/>
                </a:cubicBezTo>
                <a:cubicBezTo>
                  <a:pt x="1358658" y="576218"/>
                  <a:pt x="1358183" y="566226"/>
                  <a:pt x="1363134" y="558800"/>
                </a:cubicBezTo>
                <a:cubicBezTo>
                  <a:pt x="1369776" y="548837"/>
                  <a:pt x="1380869" y="542598"/>
                  <a:pt x="1388534" y="533400"/>
                </a:cubicBezTo>
                <a:cubicBezTo>
                  <a:pt x="1395048" y="525583"/>
                  <a:pt x="1399110" y="515946"/>
                  <a:pt x="1405467" y="508000"/>
                </a:cubicBezTo>
                <a:cubicBezTo>
                  <a:pt x="1410454" y="501767"/>
                  <a:pt x="1417290" y="497198"/>
                  <a:pt x="1422400" y="491066"/>
                </a:cubicBezTo>
                <a:cubicBezTo>
                  <a:pt x="1438864" y="471309"/>
                  <a:pt x="1445587" y="455584"/>
                  <a:pt x="1464734" y="440266"/>
                </a:cubicBezTo>
                <a:cubicBezTo>
                  <a:pt x="1472680" y="433909"/>
                  <a:pt x="1481667" y="428977"/>
                  <a:pt x="1490134" y="423333"/>
                </a:cubicBezTo>
                <a:lnTo>
                  <a:pt x="1524000" y="372533"/>
                </a:lnTo>
                <a:lnTo>
                  <a:pt x="1540934" y="347133"/>
                </a:lnTo>
                <a:cubicBezTo>
                  <a:pt x="1564917" y="275180"/>
                  <a:pt x="1531468" y="362909"/>
                  <a:pt x="1566334" y="304800"/>
                </a:cubicBezTo>
                <a:cubicBezTo>
                  <a:pt x="1593599" y="259358"/>
                  <a:pt x="1549608" y="296195"/>
                  <a:pt x="1600200" y="262466"/>
                </a:cubicBezTo>
                <a:cubicBezTo>
                  <a:pt x="1616684" y="213017"/>
                  <a:pt x="1595770" y="258430"/>
                  <a:pt x="1634067" y="220133"/>
                </a:cubicBezTo>
                <a:cubicBezTo>
                  <a:pt x="1680199" y="174001"/>
                  <a:pt x="1636354" y="193970"/>
                  <a:pt x="1684867" y="177800"/>
                </a:cubicBezTo>
                <a:cubicBezTo>
                  <a:pt x="1690511" y="172155"/>
                  <a:pt x="1695158" y="165294"/>
                  <a:pt x="1701800" y="160866"/>
                </a:cubicBezTo>
                <a:cubicBezTo>
                  <a:pt x="1717488" y="150407"/>
                  <a:pt x="1762207" y="132640"/>
                  <a:pt x="1778000" y="127000"/>
                </a:cubicBezTo>
                <a:cubicBezTo>
                  <a:pt x="1803214" y="117995"/>
                  <a:pt x="1827946" y="106851"/>
                  <a:pt x="1854200" y="101600"/>
                </a:cubicBezTo>
                <a:cubicBezTo>
                  <a:pt x="1883308" y="95778"/>
                  <a:pt x="1902493" y="92639"/>
                  <a:pt x="1930400" y="84666"/>
                </a:cubicBezTo>
                <a:cubicBezTo>
                  <a:pt x="1938981" y="82214"/>
                  <a:pt x="1947333" y="79022"/>
                  <a:pt x="1955800" y="76200"/>
                </a:cubicBezTo>
                <a:cubicBezTo>
                  <a:pt x="1964267" y="70555"/>
                  <a:pt x="1971847" y="63274"/>
                  <a:pt x="1981200" y="59266"/>
                </a:cubicBezTo>
                <a:cubicBezTo>
                  <a:pt x="1993361" y="54054"/>
                  <a:pt x="2047766" y="44742"/>
                  <a:pt x="2057400" y="42333"/>
                </a:cubicBezTo>
                <a:cubicBezTo>
                  <a:pt x="2089167" y="34391"/>
                  <a:pt x="2082747" y="31470"/>
                  <a:pt x="2116667" y="16933"/>
                </a:cubicBezTo>
                <a:cubicBezTo>
                  <a:pt x="2133677" y="9643"/>
                  <a:pt x="2158741" y="4298"/>
                  <a:pt x="2175934" y="0"/>
                </a:cubicBezTo>
                <a:cubicBezTo>
                  <a:pt x="2294467" y="2822"/>
                  <a:pt x="2413084" y="3202"/>
                  <a:pt x="2531534" y="8466"/>
                </a:cubicBezTo>
                <a:cubicBezTo>
                  <a:pt x="2540450" y="8862"/>
                  <a:pt x="2548952" y="12942"/>
                  <a:pt x="2556934" y="16933"/>
                </a:cubicBezTo>
                <a:cubicBezTo>
                  <a:pt x="2566035" y="21484"/>
                  <a:pt x="2573867" y="28222"/>
                  <a:pt x="2582334" y="33866"/>
                </a:cubicBezTo>
                <a:cubicBezTo>
                  <a:pt x="2608123" y="72550"/>
                  <a:pt x="2592072" y="52071"/>
                  <a:pt x="2633134" y="93133"/>
                </a:cubicBezTo>
                <a:cubicBezTo>
                  <a:pt x="2640329" y="100328"/>
                  <a:pt x="2650588" y="103709"/>
                  <a:pt x="2658534" y="110066"/>
                </a:cubicBezTo>
                <a:cubicBezTo>
                  <a:pt x="2684787" y="131069"/>
                  <a:pt x="2666116" y="126557"/>
                  <a:pt x="2700867" y="143933"/>
                </a:cubicBezTo>
                <a:cubicBezTo>
                  <a:pt x="2708849" y="147924"/>
                  <a:pt x="2718465" y="148066"/>
                  <a:pt x="2726267" y="152400"/>
                </a:cubicBezTo>
                <a:cubicBezTo>
                  <a:pt x="2744057" y="162283"/>
                  <a:pt x="2760134" y="174977"/>
                  <a:pt x="2777067" y="186266"/>
                </a:cubicBezTo>
                <a:lnTo>
                  <a:pt x="2802467" y="203200"/>
                </a:lnTo>
                <a:cubicBezTo>
                  <a:pt x="2810160" y="214739"/>
                  <a:pt x="2822927" y="237489"/>
                  <a:pt x="2836334" y="245533"/>
                </a:cubicBezTo>
                <a:cubicBezTo>
                  <a:pt x="2843987" y="250125"/>
                  <a:pt x="2853752" y="250009"/>
                  <a:pt x="2861734" y="254000"/>
                </a:cubicBezTo>
                <a:cubicBezTo>
                  <a:pt x="2870835" y="258551"/>
                  <a:pt x="2877835" y="266800"/>
                  <a:pt x="2887134" y="270933"/>
                </a:cubicBezTo>
                <a:cubicBezTo>
                  <a:pt x="2903445" y="278182"/>
                  <a:pt x="2921001" y="282222"/>
                  <a:pt x="2937934" y="287866"/>
                </a:cubicBezTo>
                <a:lnTo>
                  <a:pt x="2963334" y="296333"/>
                </a:lnTo>
                <a:cubicBezTo>
                  <a:pt x="2971801" y="299155"/>
                  <a:pt x="2981308" y="299850"/>
                  <a:pt x="2988734" y="304800"/>
                </a:cubicBezTo>
                <a:cubicBezTo>
                  <a:pt x="2997201" y="310444"/>
                  <a:pt x="3005033" y="317182"/>
                  <a:pt x="3014134" y="321733"/>
                </a:cubicBezTo>
                <a:cubicBezTo>
                  <a:pt x="3027672" y="328502"/>
                  <a:pt x="3060734" y="335047"/>
                  <a:pt x="3073400" y="338666"/>
                </a:cubicBezTo>
                <a:cubicBezTo>
                  <a:pt x="3081981" y="341118"/>
                  <a:pt x="3090333" y="344311"/>
                  <a:pt x="3098800" y="347133"/>
                </a:cubicBezTo>
                <a:cubicBezTo>
                  <a:pt x="3104445" y="352777"/>
                  <a:pt x="3108889" y="359959"/>
                  <a:pt x="3115734" y="364066"/>
                </a:cubicBezTo>
                <a:cubicBezTo>
                  <a:pt x="3123387" y="368658"/>
                  <a:pt x="3134165" y="366958"/>
                  <a:pt x="3141134" y="372533"/>
                </a:cubicBezTo>
                <a:cubicBezTo>
                  <a:pt x="3149080" y="378890"/>
                  <a:pt x="3150872" y="390738"/>
                  <a:pt x="3158067" y="397933"/>
                </a:cubicBezTo>
                <a:cubicBezTo>
                  <a:pt x="3165262" y="405128"/>
                  <a:pt x="3175741" y="408244"/>
                  <a:pt x="3183467" y="414866"/>
                </a:cubicBezTo>
                <a:cubicBezTo>
                  <a:pt x="3195589" y="425256"/>
                  <a:pt x="3206045" y="437444"/>
                  <a:pt x="3217334" y="448733"/>
                </a:cubicBezTo>
                <a:lnTo>
                  <a:pt x="3242734" y="474133"/>
                </a:lnTo>
                <a:cubicBezTo>
                  <a:pt x="3252712" y="484111"/>
                  <a:pt x="3265760" y="490499"/>
                  <a:pt x="3276600" y="499533"/>
                </a:cubicBezTo>
                <a:cubicBezTo>
                  <a:pt x="3324856" y="539746"/>
                  <a:pt x="3256136" y="491533"/>
                  <a:pt x="3318934" y="533400"/>
                </a:cubicBezTo>
                <a:cubicBezTo>
                  <a:pt x="3330223" y="550333"/>
                  <a:pt x="3335867" y="572911"/>
                  <a:pt x="3352800" y="584200"/>
                </a:cubicBezTo>
                <a:cubicBezTo>
                  <a:pt x="3391484" y="609989"/>
                  <a:pt x="3371005" y="593938"/>
                  <a:pt x="3412067" y="635000"/>
                </a:cubicBezTo>
                <a:cubicBezTo>
                  <a:pt x="3486274" y="709207"/>
                  <a:pt x="3395463" y="615074"/>
                  <a:pt x="3454400" y="685800"/>
                </a:cubicBezTo>
                <a:cubicBezTo>
                  <a:pt x="3491099" y="729839"/>
                  <a:pt x="3466350" y="694833"/>
                  <a:pt x="3505200" y="728133"/>
                </a:cubicBezTo>
                <a:cubicBezTo>
                  <a:pt x="3517322" y="738523"/>
                  <a:pt x="3527778" y="750711"/>
                  <a:pt x="3539067" y="762000"/>
                </a:cubicBezTo>
                <a:cubicBezTo>
                  <a:pt x="3546262" y="769195"/>
                  <a:pt x="3549299" y="779742"/>
                  <a:pt x="3556000" y="787400"/>
                </a:cubicBezTo>
                <a:cubicBezTo>
                  <a:pt x="3616934" y="857038"/>
                  <a:pt x="3575914" y="808409"/>
                  <a:pt x="3623734" y="846666"/>
                </a:cubicBezTo>
                <a:cubicBezTo>
                  <a:pt x="3629967" y="851653"/>
                  <a:pt x="3633527" y="860030"/>
                  <a:pt x="3640667" y="863600"/>
                </a:cubicBezTo>
                <a:cubicBezTo>
                  <a:pt x="3651075" y="868804"/>
                  <a:pt x="3663245" y="869244"/>
                  <a:pt x="3674534" y="872066"/>
                </a:cubicBezTo>
                <a:cubicBezTo>
                  <a:pt x="3737093" y="934629"/>
                  <a:pt x="3639939" y="842518"/>
                  <a:pt x="3716867" y="897466"/>
                </a:cubicBezTo>
                <a:cubicBezTo>
                  <a:pt x="3729858" y="906745"/>
                  <a:pt x="3739445" y="920044"/>
                  <a:pt x="3750734" y="931333"/>
                </a:cubicBezTo>
                <a:cubicBezTo>
                  <a:pt x="3757929" y="938528"/>
                  <a:pt x="3768188" y="941909"/>
                  <a:pt x="3776134" y="948266"/>
                </a:cubicBezTo>
                <a:cubicBezTo>
                  <a:pt x="3782367" y="953253"/>
                  <a:pt x="3786681" y="960410"/>
                  <a:pt x="3793067" y="965200"/>
                </a:cubicBezTo>
                <a:cubicBezTo>
                  <a:pt x="3812755" y="979966"/>
                  <a:pt x="3851473" y="1006152"/>
                  <a:pt x="3877734" y="1016000"/>
                </a:cubicBezTo>
                <a:cubicBezTo>
                  <a:pt x="3888629" y="1020086"/>
                  <a:pt x="3900311" y="1021644"/>
                  <a:pt x="3911600" y="1024466"/>
                </a:cubicBezTo>
                <a:cubicBezTo>
                  <a:pt x="3984394" y="1072997"/>
                  <a:pt x="3892293" y="1014812"/>
                  <a:pt x="3962400" y="1049866"/>
                </a:cubicBezTo>
                <a:cubicBezTo>
                  <a:pt x="4020871" y="1079102"/>
                  <a:pt x="3951181" y="1057646"/>
                  <a:pt x="4021667" y="1075266"/>
                </a:cubicBezTo>
                <a:cubicBezTo>
                  <a:pt x="4027311" y="1080911"/>
                  <a:pt x="4031755" y="1088093"/>
                  <a:pt x="4038600" y="1092200"/>
                </a:cubicBezTo>
                <a:cubicBezTo>
                  <a:pt x="4048080" y="1097888"/>
                  <a:pt x="4090493" y="1106921"/>
                  <a:pt x="4097867" y="1109133"/>
                </a:cubicBezTo>
                <a:cubicBezTo>
                  <a:pt x="4097902" y="1109143"/>
                  <a:pt x="4161350" y="1130294"/>
                  <a:pt x="4174067" y="1134533"/>
                </a:cubicBezTo>
                <a:cubicBezTo>
                  <a:pt x="4186041" y="1138524"/>
                  <a:pt x="4196215" y="1146779"/>
                  <a:pt x="4207934" y="1151466"/>
                </a:cubicBezTo>
                <a:cubicBezTo>
                  <a:pt x="4224507" y="1158095"/>
                  <a:pt x="4243882" y="1158499"/>
                  <a:pt x="4258734" y="1168400"/>
                </a:cubicBezTo>
                <a:lnTo>
                  <a:pt x="4334934" y="1219200"/>
                </a:lnTo>
                <a:cubicBezTo>
                  <a:pt x="4342360" y="1224151"/>
                  <a:pt x="4351867" y="1224844"/>
                  <a:pt x="4360334" y="1227666"/>
                </a:cubicBezTo>
                <a:cubicBezTo>
                  <a:pt x="4398323" y="1265657"/>
                  <a:pt x="4353208" y="1225589"/>
                  <a:pt x="4402667" y="1253066"/>
                </a:cubicBezTo>
                <a:cubicBezTo>
                  <a:pt x="4420457" y="1262949"/>
                  <a:pt x="4453467" y="1286933"/>
                  <a:pt x="4453467" y="1286933"/>
                </a:cubicBezTo>
                <a:cubicBezTo>
                  <a:pt x="4456289" y="1295400"/>
                  <a:pt x="4456359" y="1305364"/>
                  <a:pt x="4461934" y="1312333"/>
                </a:cubicBezTo>
                <a:cubicBezTo>
                  <a:pt x="4468291" y="1320279"/>
                  <a:pt x="4479388" y="1322909"/>
                  <a:pt x="4487334" y="1329266"/>
                </a:cubicBezTo>
                <a:cubicBezTo>
                  <a:pt x="4547655" y="1377523"/>
                  <a:pt x="4451489" y="1311015"/>
                  <a:pt x="4529667" y="1363133"/>
                </a:cubicBezTo>
                <a:cubicBezTo>
                  <a:pt x="4540501" y="1379384"/>
                  <a:pt x="4562869" y="1416534"/>
                  <a:pt x="4580467" y="1422400"/>
                </a:cubicBezTo>
                <a:lnTo>
                  <a:pt x="4605867" y="1430866"/>
                </a:lnTo>
                <a:cubicBezTo>
                  <a:pt x="4614334" y="1436511"/>
                  <a:pt x="4624072" y="1440605"/>
                  <a:pt x="4631267" y="1447800"/>
                </a:cubicBezTo>
                <a:cubicBezTo>
                  <a:pt x="4651392" y="1467925"/>
                  <a:pt x="4656751" y="1498851"/>
                  <a:pt x="4665134" y="1524000"/>
                </a:cubicBezTo>
                <a:lnTo>
                  <a:pt x="4673600" y="1549400"/>
                </a:lnTo>
                <a:lnTo>
                  <a:pt x="4682067" y="1574800"/>
                </a:lnTo>
                <a:lnTo>
                  <a:pt x="4690534" y="1600200"/>
                </a:lnTo>
                <a:cubicBezTo>
                  <a:pt x="4687712" y="1634067"/>
                  <a:pt x="4688732" y="1668476"/>
                  <a:pt x="4682067" y="1701800"/>
                </a:cubicBezTo>
                <a:cubicBezTo>
                  <a:pt x="4680071" y="1711778"/>
                  <a:pt x="4671835" y="1719542"/>
                  <a:pt x="4665134" y="1727200"/>
                </a:cubicBezTo>
                <a:cubicBezTo>
                  <a:pt x="4619198" y="1779698"/>
                  <a:pt x="4639463" y="1763563"/>
                  <a:pt x="4588934" y="1778000"/>
                </a:cubicBezTo>
                <a:cubicBezTo>
                  <a:pt x="4580353" y="1780452"/>
                  <a:pt x="4572337" y="1784999"/>
                  <a:pt x="4563534" y="1786466"/>
                </a:cubicBezTo>
                <a:cubicBezTo>
                  <a:pt x="4430394" y="1808656"/>
                  <a:pt x="4536403" y="1783089"/>
                  <a:pt x="4445000" y="1803400"/>
                </a:cubicBezTo>
                <a:cubicBezTo>
                  <a:pt x="4433641" y="1805924"/>
                  <a:pt x="4422279" y="1808522"/>
                  <a:pt x="4411134" y="1811866"/>
                </a:cubicBezTo>
                <a:cubicBezTo>
                  <a:pt x="4394037" y="1816995"/>
                  <a:pt x="4360334" y="1828800"/>
                  <a:pt x="4360334" y="1828800"/>
                </a:cubicBezTo>
                <a:cubicBezTo>
                  <a:pt x="4354689" y="1834444"/>
                  <a:pt x="4348387" y="1839500"/>
                  <a:pt x="4343400" y="1845733"/>
                </a:cubicBezTo>
                <a:cubicBezTo>
                  <a:pt x="4337043" y="1853679"/>
                  <a:pt x="4334413" y="1864776"/>
                  <a:pt x="4326467" y="1871133"/>
                </a:cubicBezTo>
                <a:cubicBezTo>
                  <a:pt x="4319498" y="1876708"/>
                  <a:pt x="4309534" y="1876778"/>
                  <a:pt x="4301067" y="1879600"/>
                </a:cubicBezTo>
                <a:cubicBezTo>
                  <a:pt x="4294181" y="1900257"/>
                  <a:pt x="4292079" y="1913988"/>
                  <a:pt x="4275667" y="1930400"/>
                </a:cubicBezTo>
                <a:cubicBezTo>
                  <a:pt x="4268472" y="1937595"/>
                  <a:pt x="4258734" y="1941689"/>
                  <a:pt x="4250267" y="1947333"/>
                </a:cubicBezTo>
                <a:cubicBezTo>
                  <a:pt x="4164665" y="2075735"/>
                  <a:pt x="4257321" y="1943947"/>
                  <a:pt x="4191000" y="2023533"/>
                </a:cubicBezTo>
                <a:cubicBezTo>
                  <a:pt x="4155723" y="2065866"/>
                  <a:pt x="4195234" y="2034822"/>
                  <a:pt x="4148667" y="2065866"/>
                </a:cubicBezTo>
                <a:cubicBezTo>
                  <a:pt x="4128516" y="2126320"/>
                  <a:pt x="4141635" y="2101815"/>
                  <a:pt x="4114800" y="2142066"/>
                </a:cubicBezTo>
                <a:lnTo>
                  <a:pt x="4097867" y="2192866"/>
                </a:lnTo>
                <a:cubicBezTo>
                  <a:pt x="4088898" y="2219774"/>
                  <a:pt x="4094627" y="2249656"/>
                  <a:pt x="4089400" y="2277533"/>
                </a:cubicBezTo>
                <a:cubicBezTo>
                  <a:pt x="4086111" y="2295077"/>
                  <a:pt x="4078111" y="2311400"/>
                  <a:pt x="4072467" y="2328333"/>
                </a:cubicBezTo>
                <a:cubicBezTo>
                  <a:pt x="4065020" y="2350673"/>
                  <a:pt x="4051814" y="2354149"/>
                  <a:pt x="4038600" y="2370666"/>
                </a:cubicBezTo>
                <a:cubicBezTo>
                  <a:pt x="4032243" y="2378612"/>
                  <a:pt x="4028024" y="2388120"/>
                  <a:pt x="4021667" y="2396066"/>
                </a:cubicBezTo>
                <a:cubicBezTo>
                  <a:pt x="4000704" y="2422271"/>
                  <a:pt x="4007341" y="2405927"/>
                  <a:pt x="3979334" y="2429933"/>
                </a:cubicBezTo>
                <a:cubicBezTo>
                  <a:pt x="3967212" y="2440323"/>
                  <a:pt x="3956756" y="2452511"/>
                  <a:pt x="3945467" y="2463800"/>
                </a:cubicBezTo>
                <a:cubicBezTo>
                  <a:pt x="3935291" y="2473976"/>
                  <a:pt x="3917182" y="2469144"/>
                  <a:pt x="3903134" y="2472266"/>
                </a:cubicBezTo>
                <a:cubicBezTo>
                  <a:pt x="3891775" y="2474790"/>
                  <a:pt x="3880456" y="2477536"/>
                  <a:pt x="3869267" y="2480733"/>
                </a:cubicBezTo>
                <a:cubicBezTo>
                  <a:pt x="3860686" y="2483185"/>
                  <a:pt x="3852791" y="2489110"/>
                  <a:pt x="3843867" y="2489200"/>
                </a:cubicBezTo>
                <a:lnTo>
                  <a:pt x="2184400" y="2497666"/>
                </a:lnTo>
                <a:cubicBezTo>
                  <a:pt x="2170289" y="2500488"/>
                  <a:pt x="2155950" y="2502347"/>
                  <a:pt x="2142067" y="2506133"/>
                </a:cubicBezTo>
                <a:cubicBezTo>
                  <a:pt x="2124847" y="2510829"/>
                  <a:pt x="2108978" y="2520852"/>
                  <a:pt x="2091267" y="2523066"/>
                </a:cubicBezTo>
                <a:lnTo>
                  <a:pt x="2023534" y="2531533"/>
                </a:lnTo>
                <a:cubicBezTo>
                  <a:pt x="1739034" y="2626370"/>
                  <a:pt x="1410422" y="2617855"/>
                  <a:pt x="1126067" y="2523066"/>
                </a:cubicBezTo>
                <a:cubicBezTo>
                  <a:pt x="1117600" y="2514599"/>
                  <a:pt x="1109865" y="2505331"/>
                  <a:pt x="1100667" y="2497666"/>
                </a:cubicBezTo>
                <a:cubicBezTo>
                  <a:pt x="1092850" y="2491152"/>
                  <a:pt x="1082796" y="2487578"/>
                  <a:pt x="1075267" y="2480733"/>
                </a:cubicBezTo>
                <a:cubicBezTo>
                  <a:pt x="1051641" y="2459255"/>
                  <a:pt x="1030112" y="2435578"/>
                  <a:pt x="1007534" y="2413000"/>
                </a:cubicBezTo>
                <a:lnTo>
                  <a:pt x="965200" y="2370666"/>
                </a:lnTo>
                <a:cubicBezTo>
                  <a:pt x="958005" y="2363471"/>
                  <a:pt x="955462" y="2352461"/>
                  <a:pt x="948267" y="2345266"/>
                </a:cubicBezTo>
                <a:cubicBezTo>
                  <a:pt x="941072" y="2338071"/>
                  <a:pt x="930684" y="2334847"/>
                  <a:pt x="922867" y="2328333"/>
                </a:cubicBezTo>
                <a:cubicBezTo>
                  <a:pt x="913669" y="2320668"/>
                  <a:pt x="906918" y="2310284"/>
                  <a:pt x="897467" y="2302933"/>
                </a:cubicBezTo>
                <a:cubicBezTo>
                  <a:pt x="881403" y="2290438"/>
                  <a:pt x="861058" y="2283457"/>
                  <a:pt x="846667" y="2269066"/>
                </a:cubicBezTo>
                <a:cubicBezTo>
                  <a:pt x="794790" y="2217189"/>
                  <a:pt x="851291" y="2271820"/>
                  <a:pt x="778934" y="2209800"/>
                </a:cubicBezTo>
                <a:cubicBezTo>
                  <a:pt x="772873" y="2204605"/>
                  <a:pt x="768132" y="2197976"/>
                  <a:pt x="762000" y="2192866"/>
                </a:cubicBezTo>
                <a:cubicBezTo>
                  <a:pt x="751160" y="2183832"/>
                  <a:pt x="738112" y="2177444"/>
                  <a:pt x="728134" y="2167466"/>
                </a:cubicBezTo>
                <a:cubicBezTo>
                  <a:pt x="718156" y="2157488"/>
                  <a:pt x="711768" y="2144440"/>
                  <a:pt x="702734" y="2133600"/>
                </a:cubicBezTo>
                <a:cubicBezTo>
                  <a:pt x="687652" y="2115502"/>
                  <a:pt x="680909" y="2113405"/>
                  <a:pt x="660400" y="2099733"/>
                </a:cubicBezTo>
                <a:cubicBezTo>
                  <a:pt x="657578" y="2091266"/>
                  <a:pt x="657121" y="2081595"/>
                  <a:pt x="651934" y="2074333"/>
                </a:cubicBezTo>
                <a:cubicBezTo>
                  <a:pt x="642655" y="2061342"/>
                  <a:pt x="629356" y="2051755"/>
                  <a:pt x="618067" y="2040466"/>
                </a:cubicBezTo>
                <a:cubicBezTo>
                  <a:pt x="609600" y="2031999"/>
                  <a:pt x="599309" y="2025029"/>
                  <a:pt x="592667" y="2015066"/>
                </a:cubicBezTo>
                <a:cubicBezTo>
                  <a:pt x="580092" y="1996204"/>
                  <a:pt x="576037" y="1986522"/>
                  <a:pt x="558800" y="1972733"/>
                </a:cubicBezTo>
                <a:cubicBezTo>
                  <a:pt x="550854" y="1966376"/>
                  <a:pt x="541346" y="1962157"/>
                  <a:pt x="533400" y="1955800"/>
                </a:cubicBezTo>
                <a:cubicBezTo>
                  <a:pt x="473079" y="1907543"/>
                  <a:pt x="569245" y="1974051"/>
                  <a:pt x="491067" y="1921933"/>
                </a:cubicBezTo>
                <a:cubicBezTo>
                  <a:pt x="485423" y="1913466"/>
                  <a:pt x="480491" y="1904479"/>
                  <a:pt x="474134" y="1896533"/>
                </a:cubicBezTo>
                <a:cubicBezTo>
                  <a:pt x="460348" y="1879301"/>
                  <a:pt x="450656" y="1875237"/>
                  <a:pt x="431800" y="1862666"/>
                </a:cubicBezTo>
                <a:cubicBezTo>
                  <a:pt x="393506" y="1805224"/>
                  <a:pt x="412325" y="1826256"/>
                  <a:pt x="381000" y="1794933"/>
                </a:cubicBezTo>
                <a:lnTo>
                  <a:pt x="347134" y="1693333"/>
                </a:lnTo>
                <a:cubicBezTo>
                  <a:pt x="341268" y="1675735"/>
                  <a:pt x="304118" y="1653367"/>
                  <a:pt x="287867" y="1642533"/>
                </a:cubicBezTo>
                <a:cubicBezTo>
                  <a:pt x="282223" y="1634066"/>
                  <a:pt x="277556" y="1624859"/>
                  <a:pt x="270934" y="1617133"/>
                </a:cubicBezTo>
                <a:cubicBezTo>
                  <a:pt x="260544" y="1605011"/>
                  <a:pt x="248356" y="1594555"/>
                  <a:pt x="237067" y="1583266"/>
                </a:cubicBezTo>
                <a:lnTo>
                  <a:pt x="211667" y="1557866"/>
                </a:lnTo>
                <a:cubicBezTo>
                  <a:pt x="197277" y="1543476"/>
                  <a:pt x="177800" y="1535289"/>
                  <a:pt x="160867" y="1524000"/>
                </a:cubicBezTo>
                <a:lnTo>
                  <a:pt x="135467" y="1507066"/>
                </a:lnTo>
                <a:cubicBezTo>
                  <a:pt x="127774" y="1495527"/>
                  <a:pt x="115007" y="1472777"/>
                  <a:pt x="101600" y="1464733"/>
                </a:cubicBezTo>
                <a:cubicBezTo>
                  <a:pt x="93947" y="1460141"/>
                  <a:pt x="80792" y="1463919"/>
                  <a:pt x="76200" y="1456266"/>
                </a:cubicBezTo>
                <a:cubicBezTo>
                  <a:pt x="70392" y="1446586"/>
                  <a:pt x="76200" y="1433689"/>
                  <a:pt x="76200" y="142240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圆角矩形标注 23"/>
          <p:cNvSpPr/>
          <p:nvPr/>
        </p:nvSpPr>
        <p:spPr>
          <a:xfrm>
            <a:off x="3000240" y="2357280"/>
            <a:ext cx="1714680" cy="428760"/>
          </a:xfrm>
          <a:prstGeom prst="wedgeRoundRectCallout">
            <a:avLst>
              <a:gd name="adj1" fmla="val -49319"/>
              <a:gd name="adj2" fmla="val 22705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 Box 6"/>
          <p:cNvSpPr/>
          <p:nvPr/>
        </p:nvSpPr>
        <p:spPr>
          <a:xfrm>
            <a:off x="3325680" y="2408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华强社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TextBox 7" descr=""/>
          <p:cNvPicPr/>
          <p:nvPr/>
        </p:nvPicPr>
        <p:blipFill>
          <a:blip r:embed="rId2"/>
          <a:stretch/>
        </p:blipFill>
        <p:spPr>
          <a:xfrm>
            <a:off x="2554200" y="19209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SUSAN</dc:creator>
  <dc:description/>
  <cp:keywords/>
  <dc:language>en-US</dc:language>
  <cp:lastModifiedBy>微软用户</cp:lastModifiedBy>
  <dcterms:modified xsi:type="dcterms:W3CDTF">2013-02-17T06:24:27Z</dcterms:modified>
  <cp:revision>2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