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gif" ContentType="image/gif"/>
  <Override PartName="/ppt/media/image11.gif" ContentType="image/gif"/>
  <Override PartName="/ppt/media/image14.png" ContentType="image/png"/>
  <Override PartName="/ppt/media/image9.png" ContentType="image/png"/>
  <Override PartName="/ppt/media/image8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2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4.gif" ContentType="image/gif"/>
  <Override PartName="/ppt/media/image16.jpeg" ContentType="image/jpeg"/>
  <Override PartName="/ppt/media/image23.gif" ContentType="image/gif"/>
  <Override PartName="/ppt/media/image22.wmf" ContentType="image/x-wmf"/>
  <Override PartName="/ppt/media/image21.gif" ContentType="image/gif"/>
  <Override PartName="/ppt/media/image20.jpeg" ContentType="image/jpeg"/>
  <Override PartName="/ppt/media/image15.jpeg" ContentType="image/jpeg"/>
  <Override PartName="/ppt/media/image17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A53-8AF3-40A4-AA96-6202B7C9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82B-738E-47F1-AF44-91DA532D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BB8-9266-4B1C-AF1A-581B5BF9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1E3-CD35-4065-BF60-C9F4DB17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1B57D-886E-46F5-A61D-B5ECA531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BE013-2EB7-409A-8830-2E060E02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92805-E4B1-4B1E-891B-A269487B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330D0-9D91-491B-929C-5CCA93E3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BA40C-D8D6-4433-A75B-70146890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49F32-CA0F-47B0-A46E-9E415715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A3BEF-B14B-4620-A6EC-3FD69C10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9ED-3CC4-4ABB-A3ED-32CC9991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F559C-873A-4322-BA2E-CD8E0B0C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DD837-857C-4B74-A40A-ACB32367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3E221-151B-4BAD-B38E-AA8C8FCE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A216C-2E74-46FB-8FA5-E14E6B21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33298-750E-4DD4-9464-85BFD672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A43-7623-4335-A223-4DF2F301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27E-9824-42DC-8A06-5747DDC8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147-3336-400F-BC83-FB15B1F8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90A-F1A5-4716-807F-C0ACAD98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2EA-0E8A-4EF9-A0AF-2D73701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6A5-28D2-4215-A62F-819AC497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D71-D0FE-4340-A43F-1C3B88C9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DAB5-6637-4C59-9CA2-70F3103DCB2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754B-0CD1-4225-8B1F-4F55B36E6F4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11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图片1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1图片1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2176200" cy="2916360"/>
          </a:xfrm>
          <a:prstGeom prst="rect">
            <a:avLst/>
          </a:prstGeom>
          <a:ln w="0">
            <a:noFill/>
          </a:ln>
        </p:spPr>
      </p:pic>
      <p:pic>
        <p:nvPicPr>
          <p:cNvPr id="86" name="2图片1" descr=""/>
          <p:cNvPicPr/>
          <p:nvPr/>
        </p:nvPicPr>
        <p:blipFill>
          <a:blip r:embed="rId4"/>
          <a:stretch/>
        </p:blipFill>
        <p:spPr>
          <a:xfrm>
            <a:off x="6659640" y="3429000"/>
            <a:ext cx="2184480" cy="2919240"/>
          </a:xfrm>
          <a:prstGeom prst="rect">
            <a:avLst/>
          </a:prstGeom>
          <a:ln w="0">
            <a:noFill/>
          </a:ln>
        </p:spPr>
      </p:pic>
      <p:pic>
        <p:nvPicPr>
          <p:cNvPr id="87" name="02" descr=""/>
          <p:cNvPicPr/>
          <p:nvPr/>
        </p:nvPicPr>
        <p:blipFill>
          <a:blip r:embed="rId5"/>
          <a:stretch/>
        </p:blipFill>
        <p:spPr>
          <a:xfrm>
            <a:off x="1403280" y="1773360"/>
            <a:ext cx="6340680" cy="27828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0" descr="鲤鱼.png"/>
          <p:cNvPicPr/>
          <p:nvPr/>
        </p:nvPicPr>
        <p:blipFill>
          <a:blip r:embed="rId6"/>
          <a:stretch/>
        </p:blipFill>
        <p:spPr>
          <a:xfrm>
            <a:off x="3505320" y="4824360"/>
            <a:ext cx="3046320" cy="2033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3" descr="波浪.png"/>
          <p:cNvPicPr/>
          <p:nvPr/>
        </p:nvPicPr>
        <p:blipFill>
          <a:blip r:embed="rId7"/>
          <a:stretch/>
        </p:blipFill>
        <p:spPr>
          <a:xfrm>
            <a:off x="0" y="4210200"/>
            <a:ext cx="9134640" cy="26478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224160" y="3716280"/>
            <a:ext cx="2698560" cy="890280"/>
            <a:chOff x="3224160" y="3716280"/>
            <a:chExt cx="2698560" cy="890280"/>
          </a:xfrm>
        </p:grpSpPr>
        <p:pic>
          <p:nvPicPr>
            <p:cNvPr id="91" name="龙跳" descr=""/>
            <p:cNvPicPr/>
            <p:nvPr/>
          </p:nvPicPr>
          <p:blipFill>
            <a:blip r:embed="rId8"/>
            <a:stretch/>
          </p:blipFill>
          <p:spPr>
            <a:xfrm>
              <a:off x="3224160" y="3716280"/>
              <a:ext cx="95760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龙跳" descr=""/>
            <p:cNvPicPr/>
            <p:nvPr/>
          </p:nvPicPr>
          <p:blipFill>
            <a:blip r:embed="rId9"/>
            <a:stretch/>
          </p:blipFill>
          <p:spPr>
            <a:xfrm>
              <a:off x="4964760" y="3716280"/>
              <a:ext cx="957960" cy="89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3259080" y="1268280"/>
            <a:ext cx="2626920" cy="960120"/>
            <a:chOff x="3259080" y="1268280"/>
            <a:chExt cx="2626920" cy="960120"/>
          </a:xfrm>
        </p:grpSpPr>
        <p:pic>
          <p:nvPicPr>
            <p:cNvPr id="94" name="龙跳" descr=""/>
            <p:cNvPicPr/>
            <p:nvPr/>
          </p:nvPicPr>
          <p:blipFill>
            <a:blip r:embed="rId10"/>
            <a:stretch/>
          </p:blipFill>
          <p:spPr>
            <a:xfrm>
              <a:off x="3259080" y="1268280"/>
              <a:ext cx="93204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龙跳" descr=""/>
            <p:cNvPicPr/>
            <p:nvPr/>
          </p:nvPicPr>
          <p:blipFill>
            <a:blip r:embed="rId11"/>
            <a:stretch/>
          </p:blipFill>
          <p:spPr>
            <a:xfrm>
              <a:off x="4953600" y="1268280"/>
              <a:ext cx="932400" cy="960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gifbj047" descr=""/>
          <p:cNvPicPr/>
          <p:nvPr/>
        </p:nvPicPr>
        <p:blipFill>
          <a:blip r:embed="rId2"/>
          <a:stretch/>
        </p:blipFill>
        <p:spPr>
          <a:xfrm>
            <a:off x="-30492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个人在高山之巅的鹰巢里，抓到了一只幼鹰，他把幼鹰带回家，养在鸡笼里。这只幼鹰和鸡一起啄食、嬉闹和休息，它以为自己是一只鸡。这只鹰渐渐长大，羽翼丰满了，主人想把它训练成猎鹰，可是由于终日和鸡混在一起，它已经变得和鸡完全一样，根本没有飞的愿望了。主人试了各种办法，都毫无效果，最后把它带到山顶上，一把将它扔了出去。这只鹰像块石头似的，直掉下去，慌乱之中它拼命地扑打翅膀，就这样，它终于飞了起来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0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9325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小泽征尔是世界著名的交响乐指挥家。在一次世界优秀指挥家大赛的决赛中，他按照评委会给的乐谱指挥演奏，敏锐地发现了不和谐的音符。起初，他以为是乐队演奏出了错误，就停下来重新演奏，但还是不对。他觉得乐谱有问题。这时，在场的作曲家和评委会的权威人士坚持说乐谱绝对没有问题，是他错了，面对一大批音乐大师和权威人士，他思考再三，最后斩钉截铁地大声说：“不！一定是乐谱错了！”话音刚落，评委席上的评委们立即站起来，报以热烈的掌声，祝贺他大赛夺魁。　原来，这是评委们精心设计的“圈套”，以此来检验指挥家在发现乐谱错误并遭到权威人士“否定”的情况下，能否坚持自己的正确主张。前两位参加比赛的指挥家虽然也发现了错误，但终因随声附和权威们的意见而被淘汰。小泽征尔却因充满自信而摘取了世界指挥家大赛的桂冠。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0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开学第一天，大哲学家苏格拉底对学生们说：“今天，我们只做一件最简单也是最容易做的事儿：每个人把胳膊尽量都往前甩，然后再尽量往后甩。”说着，苏格拉底示范了一遍，“从今天开始，每天做</a:t>
            </a:r>
            <a:r>
              <a:rPr b="1" lang="ne-NP" sz="32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，大家能做到吗？” 学生们都笑了，这么简单的事情，有什么做不到的？   过了一个月，苏格拉底问学生们：“每天甩手</a:t>
            </a:r>
            <a:r>
              <a:rPr b="1" lang="ne-NP" sz="32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，哪些同学坚持了？”有</a:t>
            </a:r>
            <a:r>
              <a:rPr b="1" lang="ne-NP" sz="3200" spc="-1" strike="noStrike">
                <a:solidFill>
                  <a:srgbClr val="000000"/>
                </a:solidFill>
                <a:latin typeface="Tahoma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同学骄傲地举起了手。又过了一个月，苏格拉底再问，这回，坚持下来的同学只剩下了八成。   一年过后，苏格拉底再一次问大家：“请大家告诉我，最简单的甩手运动，还有哪几位同学坚持了？”这时候，整个教室里，只有一个人举起了手。这个学生就是后来成为古希腊另一位大哲学家的柏拉图。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x1pGg9EMswqL-_GEyFkmGUAuMa8JEpXGvyukQnI2K57Op0ohdmaOUtf_IxgcjyofSc4KRzWWr47uGI3BoV7M1wxbIvUHcegsF6WZu3F8C7cwbcD7PA_aPvxl1IlNtflYzHYKl4gOBxZDmymmYvYRndF6Q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父子两住山上，每天都要赶牛车下山卖柴。老父较有经验，坐镇驾车，山路崎岖，弯道特多，儿子眼神较好，总是在要转弯时提醒道：“爹，转弯啦！” 有一次父亲因病没有下山，儿子一人驾车。到了弯道，牛怎么也不肯转弯，儿子用尽各种方法，下车又推又拉，用青草诱之，牛一动不动。到底是怎么回事？儿子百思不得其解。最后只有一个办法了，他左右看看无人，贴近牛的耳朵大声叫道：“爹，转弯啦！”牛应声而动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gifbj0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有个老人在河边钓鱼，一个小孩走过去看他钓鱼，老人技巧纯熟，所以没多久就钓上了满篓的鱼，老人见小孩很可爱，要把整篓的鱼送给他，小孩摇摇头，老人惊异的问道你为何不要？　小孩回答：“我想要你手中的钓竿。”老人问：“你要钓竿做什么？小孩说：“这篓鱼没多久就吃完了，要是我有钓竿，我就可以自己钓，一辈子也吃不完。”你们说，这个小孩是不是很聪明？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4800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我们的行囊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第一：相信自己，勇敢面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第二：养成习惯，重在坚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第三：注重方法，培养能力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BD06455_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635280" y="692280"/>
            <a:ext cx="5112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旅游指南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Mangal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e-NP" sz="3200" spc="-1" strike="noStrike">
                <a:solidFill>
                  <a:srgbClr val="ff0000"/>
                </a:solidFill>
                <a:latin typeface="Tahoma"/>
                <a:ea typeface="Mang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Mangal"/>
              </a:rPr>
              <a:t>．思想上高度重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e-NP" sz="3200" spc="-1" strike="noStrike">
                <a:solidFill>
                  <a:srgbClr val="ff0000"/>
                </a:solidFill>
                <a:latin typeface="Tahoma"/>
                <a:ea typeface="Mang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Mangal"/>
              </a:rPr>
              <a:t>．兴趣是最好的老师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e-NP" sz="3200" spc="-1" strike="noStrike">
                <a:solidFill>
                  <a:srgbClr val="ff0000"/>
                </a:solidFill>
                <a:latin typeface="Tahoma"/>
                <a:ea typeface="Mang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Mangal"/>
              </a:rPr>
              <a:t>．树立目标，端正态度。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gifbj05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课内 ①  认真预习、听课、作业、复习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②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积极思考并努力回答老师提出的问题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③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养成体验感悟反思的习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④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把字写得工整美观，笔划清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⑤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把话说得清楚、明白、响亮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⑥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把作文写得新颖、生动、流畅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课外 ①  阅读文章、报刊、文学作品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②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写日记、周记、心得体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③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看有益的影视节目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④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上网搜集资料信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gifbj06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作业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你在新学期有什么新设想？语文的弱项在哪里？什么原因？想怎么解决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有什么困难需要老师帮助？对老师有什么要求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结合你的情况，选择其中的一个问题谈谈。写在随笔本上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20092261531873_2" descr=""/>
          <p:cNvPicPr/>
          <p:nvPr/>
        </p:nvPicPr>
        <p:blipFill>
          <a:blip r:embed="rId2"/>
          <a:srcRect l="0" t="11330" r="0" b="0"/>
          <a:stretch/>
        </p:blipFill>
        <p:spPr>
          <a:xfrm>
            <a:off x="-181080" y="0"/>
            <a:ext cx="9721800" cy="6986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8000" y="126828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262080"/>
            <a:ext cx="62661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怎样学好语文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养成良好的学习习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书写规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使用字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完成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广泛阅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经常练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修改文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7" descr="2.png"/>
          <p:cNvPicPr/>
          <p:nvPr/>
        </p:nvPicPr>
        <p:blipFill>
          <a:blip r:embed="rId2"/>
          <a:stretch/>
        </p:blipFill>
        <p:spPr>
          <a:xfrm>
            <a:off x="20520" y="300672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2" descr="4.png"/>
          <p:cNvPicPr/>
          <p:nvPr/>
        </p:nvPicPr>
        <p:blipFill>
          <a:blip r:embed="rId3"/>
          <a:stretch/>
        </p:blipFill>
        <p:spPr>
          <a:xfrm>
            <a:off x="608040" y="1251000"/>
            <a:ext cx="7929360" cy="4357800"/>
          </a:xfrm>
          <a:prstGeom prst="rect">
            <a:avLst/>
          </a:prstGeom>
          <a:ln w="0">
            <a:noFill/>
          </a:ln>
        </p:spPr>
      </p:pic>
      <p:pic>
        <p:nvPicPr>
          <p:cNvPr id="98" name="1图片1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176200" cy="2916360"/>
          </a:xfrm>
          <a:prstGeom prst="rect">
            <a:avLst/>
          </a:prstGeom>
          <a:ln w="0">
            <a:noFill/>
          </a:ln>
        </p:spPr>
      </p:pic>
      <p:pic>
        <p:nvPicPr>
          <p:cNvPr id="99" name="2图片1" descr=""/>
          <p:cNvPicPr/>
          <p:nvPr/>
        </p:nvPicPr>
        <p:blipFill>
          <a:blip r:embed="rId5"/>
          <a:stretch/>
        </p:blipFill>
        <p:spPr>
          <a:xfrm>
            <a:off x="6659640" y="3429000"/>
            <a:ext cx="2184480" cy="2919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6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逢是首亮丽的歌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识是掬甘甜的泉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知是杯醇香的酒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处是条悠长的河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419640" y="5589720"/>
            <a:ext cx="2232000" cy="672840"/>
            <a:chOff x="3419640" y="5589720"/>
            <a:chExt cx="2232000" cy="672840"/>
          </a:xfrm>
        </p:grpSpPr>
        <p:pic>
          <p:nvPicPr>
            <p:cNvPr id="102" name="龙跳" descr=""/>
            <p:cNvPicPr/>
            <p:nvPr/>
          </p:nvPicPr>
          <p:blipFill>
            <a:blip r:embed="rId6"/>
            <a:stretch/>
          </p:blipFill>
          <p:spPr>
            <a:xfrm>
              <a:off x="3419640" y="558972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龙跳" descr=""/>
            <p:cNvPicPr/>
            <p:nvPr/>
          </p:nvPicPr>
          <p:blipFill>
            <a:blip r:embed="rId7"/>
            <a:stretch/>
          </p:blipFill>
          <p:spPr>
            <a:xfrm>
              <a:off x="4859280" y="5589720"/>
              <a:ext cx="792360" cy="67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5_142953_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87280" y="404640"/>
            <a:ext cx="7956720" cy="2466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新学期要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课前准备：准备一书、一本、一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课上听讲：不做与课堂无关的事，做好笔记，参与讨论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课后作业：按量完成，按时完成，预习新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7" descr="2.png"/>
          <p:cNvPicPr/>
          <p:nvPr/>
        </p:nvPicPr>
        <p:blipFill>
          <a:blip r:embed="rId2"/>
          <a:stretch/>
        </p:blipFill>
        <p:spPr>
          <a:xfrm>
            <a:off x="20520" y="300672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2" descr="4.png"/>
          <p:cNvPicPr/>
          <p:nvPr/>
        </p:nvPicPr>
        <p:blipFill>
          <a:blip r:embed="rId3"/>
          <a:stretch/>
        </p:blipFill>
        <p:spPr>
          <a:xfrm>
            <a:off x="608040" y="1251000"/>
            <a:ext cx="7929360" cy="4357800"/>
          </a:xfrm>
          <a:prstGeom prst="rect">
            <a:avLst/>
          </a:prstGeom>
          <a:ln w="0">
            <a:noFill/>
          </a:ln>
        </p:spPr>
      </p:pic>
      <p:pic>
        <p:nvPicPr>
          <p:cNvPr id="106" name="1图片1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176200" cy="2916360"/>
          </a:xfrm>
          <a:prstGeom prst="rect">
            <a:avLst/>
          </a:prstGeom>
          <a:ln w="0">
            <a:noFill/>
          </a:ln>
        </p:spPr>
      </p:pic>
      <p:pic>
        <p:nvPicPr>
          <p:cNvPr id="107" name="2图片1" descr=""/>
          <p:cNvPicPr/>
          <p:nvPr/>
        </p:nvPicPr>
        <p:blipFill>
          <a:blip r:embed="rId5"/>
          <a:stretch/>
        </p:blipFill>
        <p:spPr>
          <a:xfrm>
            <a:off x="6659640" y="3429000"/>
            <a:ext cx="2184480" cy="2919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907920"/>
            <a:ext cx="91440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帆风顺二龙腾飞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羊开泰四季平安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福临门六六大顺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七星高照八方来财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九九同心十全十美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百事可乐万事如意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419640" y="5589720"/>
            <a:ext cx="2232000" cy="672840"/>
            <a:chOff x="3419640" y="5589720"/>
            <a:chExt cx="2232000" cy="672840"/>
          </a:xfrm>
        </p:grpSpPr>
        <p:pic>
          <p:nvPicPr>
            <p:cNvPr id="110" name="龙跳" descr=""/>
            <p:cNvPicPr/>
            <p:nvPr/>
          </p:nvPicPr>
          <p:blipFill>
            <a:blip r:embed="rId6"/>
            <a:stretch/>
          </p:blipFill>
          <p:spPr>
            <a:xfrm>
              <a:off x="3419640" y="558972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龙跳" descr=""/>
            <p:cNvPicPr/>
            <p:nvPr/>
          </p:nvPicPr>
          <p:blipFill>
            <a:blip r:embed="rId7"/>
            <a:stretch/>
          </p:blipFill>
          <p:spPr>
            <a:xfrm>
              <a:off x="4859280" y="5589720"/>
              <a:ext cx="792360" cy="67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4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8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2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6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7" descr="2.png"/>
          <p:cNvPicPr/>
          <p:nvPr/>
        </p:nvPicPr>
        <p:blipFill>
          <a:blip r:embed="rId2"/>
          <a:stretch/>
        </p:blipFill>
        <p:spPr>
          <a:xfrm>
            <a:off x="20520" y="300672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2" descr="4.png"/>
          <p:cNvPicPr/>
          <p:nvPr/>
        </p:nvPicPr>
        <p:blipFill>
          <a:blip r:embed="rId3"/>
          <a:stretch/>
        </p:blipFill>
        <p:spPr>
          <a:xfrm>
            <a:off x="608040" y="1251000"/>
            <a:ext cx="7929360" cy="4357800"/>
          </a:xfrm>
          <a:prstGeom prst="rect">
            <a:avLst/>
          </a:prstGeom>
          <a:ln w="0">
            <a:noFill/>
          </a:ln>
        </p:spPr>
      </p:pic>
      <p:pic>
        <p:nvPicPr>
          <p:cNvPr id="114" name="1图片1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176200" cy="2916360"/>
          </a:xfrm>
          <a:prstGeom prst="rect">
            <a:avLst/>
          </a:prstGeom>
          <a:ln w="0">
            <a:noFill/>
          </a:ln>
        </p:spPr>
      </p:pic>
      <p:pic>
        <p:nvPicPr>
          <p:cNvPr id="115" name="2图片1" descr=""/>
          <p:cNvPicPr/>
          <p:nvPr/>
        </p:nvPicPr>
        <p:blipFill>
          <a:blip r:embed="rId5"/>
          <a:stretch/>
        </p:blipFill>
        <p:spPr>
          <a:xfrm>
            <a:off x="6659640" y="3429000"/>
            <a:ext cx="2184480" cy="2919240"/>
          </a:xfrm>
          <a:prstGeom prst="rect">
            <a:avLst/>
          </a:prstGeom>
          <a:ln w="0">
            <a:noFill/>
          </a:ln>
        </p:spPr>
      </p:pic>
      <p:pic>
        <p:nvPicPr>
          <p:cNvPr id="116" name="1190639151486414017" descr=""/>
          <p:cNvPicPr/>
          <p:nvPr/>
        </p:nvPicPr>
        <p:blipFill>
          <a:blip r:embed="rId6"/>
          <a:stretch/>
        </p:blipFill>
        <p:spPr>
          <a:xfrm>
            <a:off x="2411280" y="907920"/>
            <a:ext cx="42721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3419640" y="5589720"/>
            <a:ext cx="2232000" cy="672840"/>
            <a:chOff x="3419640" y="5589720"/>
            <a:chExt cx="2232000" cy="672840"/>
          </a:xfrm>
        </p:grpSpPr>
        <p:pic>
          <p:nvPicPr>
            <p:cNvPr id="118" name="龙跳" descr=""/>
            <p:cNvPicPr/>
            <p:nvPr/>
          </p:nvPicPr>
          <p:blipFill>
            <a:blip r:embed="rId7"/>
            <a:stretch/>
          </p:blipFill>
          <p:spPr>
            <a:xfrm>
              <a:off x="3419640" y="558972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龙跳" descr=""/>
            <p:cNvPicPr/>
            <p:nvPr/>
          </p:nvPicPr>
          <p:blipFill>
            <a:blip r:embed="rId8"/>
            <a:stretch/>
          </p:blipFill>
          <p:spPr>
            <a:xfrm>
              <a:off x="4859280" y="5589720"/>
              <a:ext cx="792360" cy="67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gifbj04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9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6360" y="549000"/>
            <a:ext cx="69105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</a:rPr>
              <a:t>我们又启程了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11[1]" descr=""/>
          <p:cNvPicPr/>
          <p:nvPr/>
        </p:nvPicPr>
        <p:blipFill>
          <a:blip r:embed="rId3"/>
          <a:stretch/>
        </p:blipFill>
        <p:spPr>
          <a:xfrm>
            <a:off x="0" y="2705040"/>
            <a:ext cx="914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04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第二声啼哭（池莉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类诞生的最初，总是要有第一声的啼哭。这啼哭就是语言。凡是听到这语言的人们都会发出由衷的理解和放心的微笑，因为大家都听懂了这语言。即：我来了！啼哭是美丽的，由于它是语言，由于它是语文，由于它表达了一个新生命健康蓬勃的状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一直以为，语文的意义非常深远和广泛，它从我们出生的那一刻起，一直贯穿着我们的整个生命过程。在我们的生命里，任何美丽的时刻和美丽的状态，无疑都须得包涵、交流、理解、默契、认同这样一些重要因素。而这样的一些因素，只能靠灵通的悟性和精确的表达来获得了。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语文是一种知识，但更是我们生命的营养，一旦缺乏，生命就会苍白；语文是一门学科，但更是我们生命健康的一种元素，削弱了它，我们就会缺乏必要的生活力量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语文太实用了。它简直就是人类安身立命的最基本工具，实用得近乎通俗；无论干什么，首先需要的都是语言和由此派生的理解能力。所以，语文的学习与修养简直就等于人类的第二声啼哭。人类没有第一声啼哭，还有医生帮助拍打婴儿的屁股，使婴儿大哭一声，肺叶张开。第二声啼哭就是我们自己的事情了，不会再有谁来直接痛打我们的屁股，只有我们自己才可以让自己的生命蓬勃开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92720" y="333360"/>
            <a:ext cx="3527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zh-CN" sz="4000" spc="-1" strike="noStrike">
                <a:solidFill>
                  <a:srgbClr val="ff0000"/>
                </a:solidFill>
                <a:latin typeface="Tahoma"/>
              </a:rPr>
              <a:t>一年过去，又一个新的年来了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zh-CN" sz="4000" spc="-1" strike="noStrike">
                <a:solidFill>
                  <a:srgbClr val="ff0000"/>
                </a:solidFill>
                <a:latin typeface="Tahoma"/>
              </a:rPr>
              <a:t>人来人往，脚步匆匆，别忘了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慢下来问自己一句： “我，幸福了吗？” 然后赶路 然后笑着回答：“是的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4121019_961294" descr=""/>
          <p:cNvPicPr/>
          <p:nvPr/>
        </p:nvPicPr>
        <p:blipFill>
          <a:blip r:embed="rId2"/>
          <a:stretch/>
        </p:blipFill>
        <p:spPr>
          <a:xfrm>
            <a:off x="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42916_1119966475" descr=""/>
          <p:cNvPicPr/>
          <p:nvPr/>
        </p:nvPicPr>
        <p:blipFill>
          <a:blip r:embed="rId2"/>
          <a:stretch/>
        </p:blipFill>
        <p:spPr>
          <a:xfrm>
            <a:off x="127080" y="139680"/>
            <a:ext cx="8889840" cy="657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</a:rPr>
              <a:t>沿途风景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一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群星闪耀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二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家国情怀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三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凡人小事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四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修身正己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五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生活哲理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六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科幻探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0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个灰心丧气的青年人，因科举没考上，便颓废不堪，一蹶不振，整天关在屋子里，抱头痛哭。有一天，一位老者跨进门，语重心长地说：“假如山上滑坡，你该怎么办？” 年青人喃喃：“往下跑。” 老者仰头大笑：“那你就葬身山中了。你应该往山上跑，你只有勇敢地面对它，才有生还的希望，天下事皆然。”说完便飘然而去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4:01:04Z</dcterms:created>
  <dc:creator/>
  <dc:description/>
  <dc:language>en-US</dc:language>
  <cp:lastModifiedBy>微软用户</cp:lastModifiedBy>
  <dcterms:modified xsi:type="dcterms:W3CDTF">2017-02-03T03:40:05Z</dcterms:modified>
  <cp:revision>30</cp:revision>
  <dc:subject/>
  <dc:title>PowerPoint Presentation</dc:title>
</cp:coreProperties>
</file>